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2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5.wmf" ContentType="image/x-wmf"/>
  <Override PartName="/ppt/media/image16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4.png" ContentType="image/png"/>
  <Override PartName="/ppt/media/image8.png" ContentType="image/png"/>
  <Override PartName="/ppt/media/image11.jpeg" ContentType="image/jpeg"/>
  <Override PartName="/ppt/media/image13.png" ContentType="image/png"/>
  <Override PartName="/ppt/media/image7.png" ContentType="image/png"/>
  <Override PartName="/ppt/media/image12.png" ContentType="image/png"/>
  <Override PartName="/ppt/media/image9.wmf" ContentType="image/x-wmf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E52B8-12CC-4AEA-8BD7-92B8F5B228C2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626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A7F84-F04C-40BE-933C-6BBDAFD6748D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623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B741E-0496-4453-B97E-2C460D89DC26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417DCC-6882-45FA-9AEC-294D5C6D8BF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38D325-ADD9-4A05-9B4A-8E31DFD84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B0003F-FF04-4A16-81D4-BAB76591D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2C5D0E-C62D-4137-B85B-1E1A24838B6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7DC07F-5368-4AD7-91E8-9FFD3C82C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E83239-D7A6-444C-9BF4-EE13CBE2D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A417F1-E2D4-4789-A02F-69F78D289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B3FEE8-CF90-4A1F-85D4-47ECFFF3E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B84EC0-A0CF-40F7-9902-D5DAFA00D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A2E988-4510-4D6E-B460-977823013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11917A-C0AC-4FF1-B9C7-046827AF6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791E6D-F473-41D0-869F-4E6022596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2AC6B-4B1F-44CD-8EB6-EAA52066773A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" name="Freeform 91"/>
          <p:cNvSpPr/>
          <p:nvPr/>
        </p:nvSpPr>
        <p:spPr>
          <a:xfrm>
            <a:off x="-6480" y="950760"/>
            <a:ext cx="915696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9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15" descr="1"/>
          <p:cNvPicPr/>
          <p:nvPr/>
        </p:nvPicPr>
        <p:blipFill>
          <a:blip r:embed="rId4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51" name="Freeform 107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52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53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54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6" name="Freeform 93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7" name="Group 94"/>
          <p:cNvGrpSpPr/>
          <p:nvPr/>
        </p:nvGrpSpPr>
        <p:grpSpPr>
          <a:xfrm>
            <a:off x="0" y="4689000"/>
            <a:ext cx="9144000" cy="2168640"/>
            <a:chOff x="0" y="4689000"/>
            <a:chExt cx="9144000" cy="2168640"/>
          </a:xfrm>
        </p:grpSpPr>
        <p:grpSp>
          <p:nvGrpSpPr>
            <p:cNvPr id="58" name="Group 95"/>
            <p:cNvGrpSpPr/>
            <p:nvPr/>
          </p:nvGrpSpPr>
          <p:grpSpPr>
            <a:xfrm>
              <a:off x="28440" y="5048640"/>
              <a:ext cx="9115560" cy="1809000"/>
              <a:chOff x="28440" y="5048640"/>
              <a:chExt cx="9115560" cy="1809000"/>
            </a:xfrm>
          </p:grpSpPr>
          <p:sp>
            <p:nvSpPr>
              <p:cNvPr id="59" name="Rectangle 96"/>
              <p:cNvSpPr/>
              <p:nvPr/>
            </p:nvSpPr>
            <p:spPr>
              <a:xfrm>
                <a:off x="28440" y="5048640"/>
                <a:ext cx="9115560" cy="18090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0" name="Rectangle 97"/>
              <p:cNvSpPr/>
              <p:nvPr/>
            </p:nvSpPr>
            <p:spPr>
              <a:xfrm>
                <a:off x="28440" y="50486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61" name="Group 98"/>
            <p:cNvGrpSpPr/>
            <p:nvPr/>
          </p:nvGrpSpPr>
          <p:grpSpPr>
            <a:xfrm>
              <a:off x="0" y="4689000"/>
              <a:ext cx="9097920" cy="403920"/>
              <a:chOff x="0" y="4689000"/>
              <a:chExt cx="9097920" cy="403920"/>
            </a:xfrm>
          </p:grpSpPr>
          <p:sp>
            <p:nvSpPr>
              <p:cNvPr id="62" name="Freeform 99"/>
              <p:cNvSpPr/>
              <p:nvPr/>
            </p:nvSpPr>
            <p:spPr>
              <a:xfrm flipV="1">
                <a:off x="0" y="4688280"/>
                <a:ext cx="9097920" cy="3459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3" name="Freeform 100"/>
              <p:cNvSpPr/>
              <p:nvPr/>
            </p:nvSpPr>
            <p:spPr>
              <a:xfrm flipV="1">
                <a:off x="0" y="4731840"/>
                <a:ext cx="9097920" cy="36036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64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5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6" name="Freeform 103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7" name="Freeform 104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8" name="Freeform 105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9" name="Freeform 106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70" name="Picture 116" descr=""/>
          <p:cNvPicPr/>
          <p:nvPr/>
        </p:nvPicPr>
        <p:blipFill>
          <a:blip r:embed="rId5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78920" y="2276640"/>
            <a:ext cx="5977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宋体"/>
                <a:ea typeface="宋体"/>
              </a:rPr>
              <a:t>第三章  护理学理论及相关理论 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p:transition spd="slow">
    <p:randomBa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系统的基本特征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整体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相关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目的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层次性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动态性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二）系统的结构与功能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系统的结构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Rectangle 3"/>
          <p:cNvSpPr/>
          <p:nvPr/>
        </p:nvSpPr>
        <p:spPr>
          <a:xfrm>
            <a:off x="0" y="2781360"/>
            <a:ext cx="9144000" cy="302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Text Box 159"/>
          <p:cNvSpPr/>
          <p:nvPr/>
        </p:nvSpPr>
        <p:spPr>
          <a:xfrm>
            <a:off x="324000" y="3068640"/>
            <a:ext cx="2649240" cy="81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输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物质、能量、信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Text Box 161"/>
          <p:cNvSpPr/>
          <p:nvPr/>
        </p:nvSpPr>
        <p:spPr>
          <a:xfrm>
            <a:off x="3492360" y="2997360"/>
            <a:ext cx="1784520" cy="888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系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处理与转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Text Box 163"/>
          <p:cNvSpPr/>
          <p:nvPr/>
        </p:nvSpPr>
        <p:spPr>
          <a:xfrm>
            <a:off x="5796000" y="2997360"/>
            <a:ext cx="2628720" cy="86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输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产品、成果、人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156" name="AutoShape 167"/>
          <p:cNvCxnSpPr/>
          <p:nvPr/>
        </p:nvCxnSpPr>
        <p:spPr>
          <a:xfrm flipV="1">
            <a:off x="1618920" y="3933000"/>
            <a:ext cx="1080" cy="553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7" name="AutoShape 168"/>
          <p:cNvCxnSpPr/>
          <p:nvPr/>
        </p:nvCxnSpPr>
        <p:spPr>
          <a:xfrm flipV="1">
            <a:off x="7092720" y="3933000"/>
            <a:ext cx="1080" cy="553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8" name="Line 14"/>
          <p:cNvSpPr/>
          <p:nvPr/>
        </p:nvSpPr>
        <p:spPr>
          <a:xfrm>
            <a:off x="2987640" y="357336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Line 15"/>
          <p:cNvSpPr/>
          <p:nvPr/>
        </p:nvSpPr>
        <p:spPr>
          <a:xfrm>
            <a:off x="5305320" y="3573360"/>
            <a:ext cx="490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Line 16"/>
          <p:cNvSpPr/>
          <p:nvPr/>
        </p:nvSpPr>
        <p:spPr>
          <a:xfrm>
            <a:off x="1619280" y="4508640"/>
            <a:ext cx="2182680" cy="25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Line 17"/>
          <p:cNvSpPr/>
          <p:nvPr/>
        </p:nvSpPr>
        <p:spPr>
          <a:xfrm>
            <a:off x="4859280" y="4508640"/>
            <a:ext cx="2233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Text Box 164"/>
          <p:cNvSpPr/>
          <p:nvPr/>
        </p:nvSpPr>
        <p:spPr>
          <a:xfrm>
            <a:off x="3851280" y="4221000"/>
            <a:ext cx="958680" cy="51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反馈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系统的结构与功能的关系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辩证统一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内在的结构决定外部的功能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外部的功能作用于内在的结构</a:t>
            </a: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三）一般系统论在护理中的应用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179280" y="2155680"/>
            <a:ext cx="4248360" cy="3017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黑体"/>
                <a:ea typeface="黑体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．用系统的观点看人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人是一个统一的整体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人是一个开放的、动态的系统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人是具有主观能动性的系统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4465800" y="2158920"/>
            <a:ext cx="4465440" cy="2628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黑体"/>
                <a:ea typeface="黑体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．用系统的观点看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护理系统是一个具有复杂结构的系统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护理系统是一个开放的、动态的系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护理系统是一个具有决策与反馈功能的系统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66320" y="356760"/>
            <a:ext cx="8077320" cy="69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 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二、人类基本需要层次理论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277920" y="1281240"/>
            <a:ext cx="8610480" cy="440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需要的概述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人类基本需要层次理论的主要内容、主要观点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影响基本需要满足的因素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需要层次理论对护理实践的意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患者的基本需要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一）需要的概述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需要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又称需求，是个体对事物的欲望或要求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基本需要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是个体为了维持身心平衡及求得生存、成长与发展，在生理上和精神上的最基本的需要。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-360" y="1197000"/>
            <a:ext cx="89154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需要的分类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根据需要的对象：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物质需要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精神需要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根据需要的起源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生理需要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社会需要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需要的特征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发展性与无限性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共同性与独特性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社会历史制约性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9000" y="1231920"/>
            <a:ext cx="8906040" cy="52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二）人类基本需要层次理论的主要内容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AutoShape 170"/>
          <p:cNvSpPr/>
          <p:nvPr/>
        </p:nvSpPr>
        <p:spPr>
          <a:xfrm>
            <a:off x="665280" y="2254320"/>
            <a:ext cx="6192720" cy="40543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187" name="AutoShape 171"/>
          <p:cNvCxnSpPr/>
          <p:nvPr/>
        </p:nvCxnSpPr>
        <p:spPr>
          <a:xfrm flipV="1">
            <a:off x="1136520" y="5698440"/>
            <a:ext cx="5214240" cy="1188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188" name="AutoShape 172"/>
          <p:cNvCxnSpPr/>
          <p:nvPr/>
        </p:nvCxnSpPr>
        <p:spPr>
          <a:xfrm>
            <a:off x="1547640" y="5090760"/>
            <a:ext cx="4352400" cy="3708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189" name="AutoShape 173"/>
          <p:cNvCxnSpPr/>
          <p:nvPr/>
        </p:nvCxnSpPr>
        <p:spPr>
          <a:xfrm flipV="1">
            <a:off x="1979640" y="4525200"/>
            <a:ext cx="3526560" cy="540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190" name="AutoShape 174"/>
          <p:cNvCxnSpPr/>
          <p:nvPr/>
        </p:nvCxnSpPr>
        <p:spPr>
          <a:xfrm>
            <a:off x="2917440" y="4003200"/>
            <a:ext cx="205668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191" name="Text Box 175"/>
          <p:cNvSpPr/>
          <p:nvPr/>
        </p:nvSpPr>
        <p:spPr>
          <a:xfrm>
            <a:off x="2492280" y="5770440"/>
            <a:ext cx="3013200" cy="455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生理需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Text Box 176"/>
          <p:cNvSpPr/>
          <p:nvPr/>
        </p:nvSpPr>
        <p:spPr>
          <a:xfrm>
            <a:off x="2630520" y="5159520"/>
            <a:ext cx="2658960" cy="453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安全需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3" name="Text Box 177"/>
          <p:cNvSpPr/>
          <p:nvPr/>
        </p:nvSpPr>
        <p:spPr>
          <a:xfrm>
            <a:off x="2630520" y="4589640"/>
            <a:ext cx="2658960" cy="385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爱与归属需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Text Box 178"/>
          <p:cNvSpPr/>
          <p:nvPr/>
        </p:nvSpPr>
        <p:spPr>
          <a:xfrm>
            <a:off x="2886120" y="3965400"/>
            <a:ext cx="2055600" cy="455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尊重需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5" name="Text Box 179"/>
          <p:cNvSpPr/>
          <p:nvPr/>
        </p:nvSpPr>
        <p:spPr>
          <a:xfrm>
            <a:off x="2630520" y="2921040"/>
            <a:ext cx="2259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自我实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现需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6" name="Text Box 181"/>
          <p:cNvSpPr/>
          <p:nvPr/>
        </p:nvSpPr>
        <p:spPr>
          <a:xfrm>
            <a:off x="4889520" y="2576520"/>
            <a:ext cx="123336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高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Text Box 182"/>
          <p:cNvSpPr/>
          <p:nvPr/>
        </p:nvSpPr>
        <p:spPr>
          <a:xfrm>
            <a:off x="6921360" y="5613480"/>
            <a:ext cx="118296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低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198" name="AutoShape 183"/>
          <p:cNvCxnSpPr/>
          <p:nvPr/>
        </p:nvCxnSpPr>
        <p:spPr>
          <a:xfrm>
            <a:off x="5605560" y="3104640"/>
            <a:ext cx="1937520" cy="2498040"/>
          </a:xfrm>
          <a:prstGeom prst="straightConnector1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</p:cxnSp>
      <p:cxnSp>
        <p:nvCxnSpPr>
          <p:cNvPr id="199" name="AutoShape 173"/>
          <p:cNvCxnSpPr/>
          <p:nvPr/>
        </p:nvCxnSpPr>
        <p:spPr>
          <a:xfrm>
            <a:off x="2519280" y="3868200"/>
            <a:ext cx="254088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</p:spTree>
  </p:cSld>
  <p:transition spd="slow">
    <p:randomBar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-360" y="137124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生理需要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维持个体生存所必须的最基本的需要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包括氧气、水、食物、排泄、活动与休息、避免疼痛等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AutoShape 19"/>
          <p:cNvSpPr/>
          <p:nvPr/>
        </p:nvSpPr>
        <p:spPr>
          <a:xfrm>
            <a:off x="4111560" y="4032360"/>
            <a:ext cx="5032440" cy="234936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第二节 护理学理论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奥瑞姆的自理理论 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罗伊的适应模式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 Box 22"/>
          <p:cNvSpPr/>
          <p:nvPr/>
        </p:nvSpPr>
        <p:spPr>
          <a:xfrm>
            <a:off x="179280" y="2519280"/>
            <a:ext cx="30243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第三章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护理学理论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及相关理论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Rectangle 19"/>
          <p:cNvSpPr/>
          <p:nvPr/>
        </p:nvSpPr>
        <p:spPr>
          <a:xfrm>
            <a:off x="395280" y="126828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学习内容 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Freeform 12"/>
          <p:cNvSpPr/>
          <p:nvPr/>
        </p:nvSpPr>
        <p:spPr>
          <a:xfrm rot="12939000">
            <a:off x="2965320" y="2638080"/>
            <a:ext cx="1146240" cy="1170000"/>
          </a:xfrm>
          <a:prstGeom prst="pie">
            <a:avLst/>
          </a:prstGeom>
          <a:gradFill rotWithShape="0">
            <a:gsLst>
              <a:gs pos="0">
                <a:srgbClr val="99669b"/>
              </a:gs>
              <a:gs pos="100000">
                <a:srgbClr val="7d7dbe"/>
              </a:gs>
            </a:gsLst>
            <a:lin ang="866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AutoShape 18"/>
          <p:cNvSpPr/>
          <p:nvPr/>
        </p:nvSpPr>
        <p:spPr>
          <a:xfrm>
            <a:off x="4071960" y="1550880"/>
            <a:ext cx="5072040" cy="230508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99"/>
                </a:solidFill>
                <a:latin typeface="黑体"/>
                <a:ea typeface="黑体"/>
              </a:rPr>
              <a:t>第一节 护理学相关理论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一般系统论</a:t>
            </a:r>
            <a:r>
              <a:rPr b="0" lang="zh-CN" sz="3600" spc="-1" strike="noStrike">
                <a:solidFill>
                  <a:srgbClr val="046ca6"/>
                </a:solidFill>
                <a:latin typeface="Arial"/>
                <a:ea typeface="黑体"/>
              </a:rPr>
              <a:t> </a:t>
            </a:r>
            <a:br>
              <a:rPr sz="3600"/>
            </a:br>
            <a:r>
              <a:rPr b="0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人类基本需要层次理论</a:t>
            </a:r>
            <a:r>
              <a:rPr b="0" lang="zh-CN" sz="3600" spc="-1" strike="noStrike">
                <a:solidFill>
                  <a:srgbClr val="046ca6"/>
                </a:solidFill>
                <a:latin typeface="Arial"/>
                <a:ea typeface="黑体"/>
              </a:rPr>
              <a:t> </a:t>
            </a:r>
            <a:br>
              <a:rPr sz="3600"/>
            </a:br>
            <a:r>
              <a:rPr b="0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应激与适应理论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137124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安全需要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指受到保护与免遭威胁、获得安全感的需要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包括人身安全、财产安全以及健康保障等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-360" y="1197000"/>
            <a:ext cx="89154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爱与归属需要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指被他人或群体接纳、爱护、关注和支持的需要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包括得到和给予两方面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137124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尊重需要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指个体对自己尊严和价值的追求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包括自我尊重、被尊重和尊重他人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56760" y="1371240"/>
            <a:ext cx="8558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自我实现需要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指个体希望最大限度地发挥潜能，实现理想和抱负的要求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人类最高层次的需要，其需求程度和满足的方式也有个体差异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1371240"/>
            <a:ext cx="9144000" cy="52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三）人类基本需要层次理论的主要观点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需要的产生和满足具有一定的层次性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需要的产生与满足不是固定不变的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各层次的需要相互关联，彼此重叠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需要满足的程度与健康密切相关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-360" y="126792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四）影响基本需要满足的因素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Text Box 4"/>
          <p:cNvSpPr/>
          <p:nvPr/>
        </p:nvSpPr>
        <p:spPr>
          <a:xfrm>
            <a:off x="285840" y="2263680"/>
            <a:ext cx="2684520" cy="1739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环境因素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物理环境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社会环境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Text Box 5"/>
          <p:cNvSpPr/>
          <p:nvPr/>
        </p:nvSpPr>
        <p:spPr>
          <a:xfrm>
            <a:off x="3100320" y="2552760"/>
            <a:ext cx="2684520" cy="2288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文化因素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教育背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地域习俗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观念信仰</a:t>
            </a:r>
            <a:r>
              <a:rPr b="0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Text Box 6"/>
          <p:cNvSpPr/>
          <p:nvPr/>
        </p:nvSpPr>
        <p:spPr>
          <a:xfrm>
            <a:off x="5916600" y="2859120"/>
            <a:ext cx="2994120" cy="33858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．个人因素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生理因素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情绪因素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认知因素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性格因素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能力因素</a:t>
            </a:r>
            <a:r>
              <a:rPr b="0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五）需要层次理论对护理实践的意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观察、识别并预测患者的需要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确定需要满足的次序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理解和领悟患者的言行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304920" y="1371240"/>
            <a:ext cx="8610480" cy="52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六）患者的基本需要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0" name="Text Box 14"/>
          <p:cNvSpPr/>
          <p:nvPr/>
        </p:nvSpPr>
        <p:spPr>
          <a:xfrm>
            <a:off x="0" y="3814920"/>
            <a:ext cx="30654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d1496"/>
                </a:solidFill>
                <a:latin typeface="黑体"/>
                <a:ea typeface="黑体"/>
              </a:rPr>
              <a:t>患者的基本需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Line 17"/>
          <p:cNvSpPr/>
          <p:nvPr/>
        </p:nvSpPr>
        <p:spPr>
          <a:xfrm>
            <a:off x="3332160" y="458136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Line 18"/>
          <p:cNvSpPr/>
          <p:nvPr/>
        </p:nvSpPr>
        <p:spPr>
          <a:xfrm>
            <a:off x="3332160" y="337500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3" name="Line 19"/>
          <p:cNvSpPr/>
          <p:nvPr/>
        </p:nvSpPr>
        <p:spPr>
          <a:xfrm>
            <a:off x="3332160" y="395136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Line 20"/>
          <p:cNvSpPr/>
          <p:nvPr/>
        </p:nvSpPr>
        <p:spPr>
          <a:xfrm>
            <a:off x="2987640" y="4221000"/>
            <a:ext cx="362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Line 17"/>
          <p:cNvSpPr/>
          <p:nvPr/>
        </p:nvSpPr>
        <p:spPr>
          <a:xfrm>
            <a:off x="3332160" y="515628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6" name="Rectangle 8"/>
          <p:cNvSpPr/>
          <p:nvPr/>
        </p:nvSpPr>
        <p:spPr>
          <a:xfrm>
            <a:off x="3816360" y="4624560"/>
            <a:ext cx="2987640" cy="6760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认知需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" name="Rectangle 8"/>
          <p:cNvSpPr/>
          <p:nvPr/>
        </p:nvSpPr>
        <p:spPr>
          <a:xfrm>
            <a:off x="3816360" y="2151000"/>
            <a:ext cx="2987640" cy="6764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生理需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Rectangle 8"/>
          <p:cNvSpPr/>
          <p:nvPr/>
        </p:nvSpPr>
        <p:spPr>
          <a:xfrm>
            <a:off x="3816360" y="4048200"/>
            <a:ext cx="2987640" cy="6760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尊重需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Line 18"/>
          <p:cNvSpPr/>
          <p:nvPr/>
        </p:nvSpPr>
        <p:spPr>
          <a:xfrm>
            <a:off x="3348000" y="278136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Rectangle 8"/>
          <p:cNvSpPr/>
          <p:nvPr/>
        </p:nvSpPr>
        <p:spPr>
          <a:xfrm>
            <a:off x="3816360" y="3400560"/>
            <a:ext cx="2987640" cy="7300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爱与归属需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" name="Rectangle 8"/>
          <p:cNvSpPr/>
          <p:nvPr/>
        </p:nvSpPr>
        <p:spPr>
          <a:xfrm>
            <a:off x="3816360" y="2824200"/>
            <a:ext cx="2987640" cy="6760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安全需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2" name="Rectangle 8"/>
          <p:cNvSpPr/>
          <p:nvPr/>
        </p:nvSpPr>
        <p:spPr>
          <a:xfrm>
            <a:off x="3816360" y="5200560"/>
            <a:ext cx="2987640" cy="6764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审美需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3" name="Rectangle 8"/>
          <p:cNvSpPr/>
          <p:nvPr/>
        </p:nvSpPr>
        <p:spPr>
          <a:xfrm>
            <a:off x="3816360" y="5776920"/>
            <a:ext cx="2987640" cy="6764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自我实现需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4" name="Line 17"/>
          <p:cNvSpPr/>
          <p:nvPr/>
        </p:nvSpPr>
        <p:spPr>
          <a:xfrm>
            <a:off x="3348000" y="573408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5" name="Line 17"/>
          <p:cNvSpPr/>
          <p:nvPr/>
        </p:nvSpPr>
        <p:spPr>
          <a:xfrm>
            <a:off x="3348000" y="616572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6" name="Line 16"/>
          <p:cNvSpPr/>
          <p:nvPr/>
        </p:nvSpPr>
        <p:spPr>
          <a:xfrm>
            <a:off x="3332160" y="2781360"/>
            <a:ext cx="15840" cy="338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06632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 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三、应激与适应理论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285840" y="785520"/>
            <a:ext cx="86104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 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594360" indent="-228600">
              <a:lnSpc>
                <a:spcPct val="15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应激的概述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594360" indent="-228600">
              <a:lnSpc>
                <a:spcPct val="15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适应的概述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594360" indent="-228600">
              <a:lnSpc>
                <a:spcPct val="15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应激学说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594360" indent="-228600">
              <a:lnSpc>
                <a:spcPct val="15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应激与适应理论在护理中的应用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594360" indent="-228600">
              <a:lnSpc>
                <a:spcPct val="15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士的应激与应对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一）应激的概述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应激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又称压力或紧张，是指个体对作用于自身的内外环境刺激做出认知评价后，引起的一系列非特异性的生理及心理紧张性反应状态的过程。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3" name="AutoShape 4"/>
          <p:cNvSpPr/>
          <p:nvPr/>
        </p:nvSpPr>
        <p:spPr>
          <a:xfrm>
            <a:off x="3035160" y="5267160"/>
            <a:ext cx="2997360" cy="806760"/>
          </a:xfrm>
          <a:prstGeom prst="pie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4" name="Oval 8"/>
          <p:cNvSpPr/>
          <p:nvPr/>
        </p:nvSpPr>
        <p:spPr>
          <a:xfrm>
            <a:off x="3265560" y="4299120"/>
            <a:ext cx="2611440" cy="961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5" name="Oval 9"/>
          <p:cNvSpPr/>
          <p:nvPr/>
        </p:nvSpPr>
        <p:spPr>
          <a:xfrm>
            <a:off x="5905440" y="5108400"/>
            <a:ext cx="2497320" cy="107316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6" name="Oval 12"/>
          <p:cNvSpPr/>
          <p:nvPr/>
        </p:nvSpPr>
        <p:spPr>
          <a:xfrm>
            <a:off x="595440" y="5183280"/>
            <a:ext cx="2379600" cy="10206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7" name="Text Box 13"/>
          <p:cNvSpPr/>
          <p:nvPr/>
        </p:nvSpPr>
        <p:spPr>
          <a:xfrm>
            <a:off x="3774960" y="5994360"/>
            <a:ext cx="151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应激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Text Box 14"/>
          <p:cNvSpPr/>
          <p:nvPr/>
        </p:nvSpPr>
        <p:spPr>
          <a:xfrm>
            <a:off x="3203640" y="4424400"/>
            <a:ext cx="273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认知评价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" name="Text Box 16"/>
          <p:cNvSpPr/>
          <p:nvPr/>
        </p:nvSpPr>
        <p:spPr>
          <a:xfrm>
            <a:off x="636480" y="5378400"/>
            <a:ext cx="233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刺激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0" name="Text Box 17"/>
          <p:cNvSpPr/>
          <p:nvPr/>
        </p:nvSpPr>
        <p:spPr>
          <a:xfrm>
            <a:off x="5979960" y="5381640"/>
            <a:ext cx="240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反应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Rectangle 2"/>
          <p:cNvSpPr/>
          <p:nvPr/>
        </p:nvSpPr>
        <p:spPr>
          <a:xfrm>
            <a:off x="4643280" y="428760"/>
            <a:ext cx="45007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学习目标</a:t>
            </a:r>
            <a:r>
              <a:rPr b="0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Rectangle 3"/>
          <p:cNvSpPr/>
          <p:nvPr/>
        </p:nvSpPr>
        <p:spPr>
          <a:xfrm>
            <a:off x="82440" y="1916280"/>
            <a:ext cx="8832960" cy="37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识记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陈述系统、需要的特征和分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描述系统、需要、应激、自理、适应的概念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列举常见的应激源以及人类常见的应激反应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应激源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：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又称压力源或紧张源，指任何能使个体产生应激反应的内外环境的刺激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根据其性质可分为以下四类：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304920" y="1371240"/>
            <a:ext cx="8610480" cy="52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7" name="AutoShape 11"/>
          <p:cNvSpPr/>
          <p:nvPr/>
        </p:nvSpPr>
        <p:spPr>
          <a:xfrm>
            <a:off x="3195720" y="2968560"/>
            <a:ext cx="2800440" cy="1909800"/>
          </a:xfrm>
          <a:prstGeom prst="pie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" name="Oval 8"/>
          <p:cNvSpPr/>
          <p:nvPr/>
        </p:nvSpPr>
        <p:spPr>
          <a:xfrm>
            <a:off x="3195720" y="1422360"/>
            <a:ext cx="2733480" cy="16002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58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9" name="Oval 9"/>
          <p:cNvSpPr/>
          <p:nvPr/>
        </p:nvSpPr>
        <p:spPr>
          <a:xfrm>
            <a:off x="6113520" y="3003480"/>
            <a:ext cx="2773440" cy="18036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0" name="Oval 12"/>
          <p:cNvSpPr/>
          <p:nvPr/>
        </p:nvSpPr>
        <p:spPr>
          <a:xfrm>
            <a:off x="351000" y="3022560"/>
            <a:ext cx="2687400" cy="17845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58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1" name="Text Box 14"/>
          <p:cNvSpPr/>
          <p:nvPr/>
        </p:nvSpPr>
        <p:spPr>
          <a:xfrm>
            <a:off x="3112920" y="1601640"/>
            <a:ext cx="288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躯体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应激源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2" name="Text Box 16"/>
          <p:cNvSpPr/>
          <p:nvPr/>
        </p:nvSpPr>
        <p:spPr>
          <a:xfrm>
            <a:off x="311040" y="3402000"/>
            <a:ext cx="2800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文化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应激源</a:t>
            </a:r>
            <a:r>
              <a:rPr b="0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3" name="Oval 9"/>
          <p:cNvSpPr/>
          <p:nvPr/>
        </p:nvSpPr>
        <p:spPr>
          <a:xfrm>
            <a:off x="3195720" y="4788000"/>
            <a:ext cx="2800440" cy="15984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社会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应激源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4" name="Text Box 14"/>
          <p:cNvSpPr/>
          <p:nvPr/>
        </p:nvSpPr>
        <p:spPr>
          <a:xfrm>
            <a:off x="6113520" y="3343320"/>
            <a:ext cx="2817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心理性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应激源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5" name="Text Box 13"/>
          <p:cNvSpPr/>
          <p:nvPr/>
        </p:nvSpPr>
        <p:spPr>
          <a:xfrm>
            <a:off x="3637080" y="3648240"/>
            <a:ext cx="181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应激源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0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2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7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107640" y="1327320"/>
            <a:ext cx="8807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应激反应指个体对应激源所产生的一系列身心反应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9" name="Rectangle 5"/>
          <p:cNvSpPr/>
          <p:nvPr/>
        </p:nvSpPr>
        <p:spPr>
          <a:xfrm>
            <a:off x="108000" y="4149720"/>
            <a:ext cx="2305080" cy="649440"/>
          </a:xfrm>
          <a:prstGeom prst="rect">
            <a:avLst/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应激反应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0" name="AutoShape 9"/>
          <p:cNvSpPr/>
          <p:nvPr/>
        </p:nvSpPr>
        <p:spPr>
          <a:xfrm>
            <a:off x="2436840" y="3357720"/>
            <a:ext cx="550800" cy="2447640"/>
          </a:xfrm>
          <a:custGeom>
            <a:avLst/>
            <a:gdLst>
              <a:gd name="textAreaLeft" fmla="*/ 352080 w 550800"/>
              <a:gd name="textAreaRight" fmla="*/ 551160 w 550800"/>
              <a:gd name="textAreaTop" fmla="*/ 49320 h 2447640"/>
              <a:gd name="textAreaBottom" fmla="*/ 2398320 h 244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699"/>
                  <a:pt x="10800" y="1398"/>
                </a:cubicBezTo>
                <a:lnTo>
                  <a:pt x="10800" y="9402"/>
                </a:lnTo>
                <a:cubicBezTo>
                  <a:pt x="10800" y="10101"/>
                  <a:pt x="5400" y="10800"/>
                  <a:pt x="0" y="10800"/>
                </a:cubicBezTo>
                <a:cubicBezTo>
                  <a:pt x="5400" y="10800"/>
                  <a:pt x="10800" y="11499"/>
                  <a:pt x="10800" y="12198"/>
                </a:cubicBezTo>
                <a:lnTo>
                  <a:pt x="10800" y="20202"/>
                </a:lnTo>
                <a:cubicBezTo>
                  <a:pt x="10800" y="20901"/>
                  <a:pt x="16200" y="21600"/>
                  <a:pt x="21600" y="21600"/>
                </a:cubicBezTo>
              </a:path>
            </a:pathLst>
          </a:custGeom>
          <a:noFill/>
          <a:ln w="4428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1" name="Text Box 10"/>
          <p:cNvSpPr/>
          <p:nvPr/>
        </p:nvSpPr>
        <p:spPr>
          <a:xfrm>
            <a:off x="3052800" y="2811600"/>
            <a:ext cx="6091200" cy="301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00000"/>
                </a:solidFill>
                <a:latin typeface="黑体"/>
                <a:ea typeface="黑体"/>
              </a:rPr>
              <a:t>生理反应</a:t>
            </a: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客观的、可观察、可测量的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00000"/>
                </a:solidFill>
                <a:latin typeface="黑体"/>
                <a:ea typeface="黑体"/>
              </a:rPr>
              <a:t>心理反应</a:t>
            </a: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认知反应：积极和消极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情绪反应：焦虑、恐惧、抑郁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行为反应：对行为的控制力下降或丧失</a:t>
            </a:r>
            <a:r>
              <a:rPr b="0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8" dur="500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3" dur="500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8" dur="500"/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3" dur="500"/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8" dur="500"/>
                                        <p:tgtEl>
                                          <p:spTgt spid="2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6" dur="500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9" dur="500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2" dur="500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500"/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8" dur="500"/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2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1196640"/>
            <a:ext cx="91440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二）适应的概述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适应：是机体通过调整自己以保持内外环境的平衡的过程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适应是一个持续的、动态的过程，是应对的最终目的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适应是区别有生命机体和无生命机体的特征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适应是保证机体应对应激源以及健康生存的基础。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304920" y="1371600"/>
            <a:ext cx="8610480" cy="537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适应的层次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8" name="AutoShape 4"/>
          <p:cNvSpPr/>
          <p:nvPr/>
        </p:nvSpPr>
        <p:spPr>
          <a:xfrm>
            <a:off x="3211560" y="3649680"/>
            <a:ext cx="2943000" cy="1440000"/>
          </a:xfrm>
          <a:prstGeom prst="pie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9" name="Oval 8"/>
          <p:cNvSpPr/>
          <p:nvPr/>
        </p:nvSpPr>
        <p:spPr>
          <a:xfrm>
            <a:off x="3541680" y="2425680"/>
            <a:ext cx="2236680" cy="12906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0" name="Oval 9"/>
          <p:cNvSpPr/>
          <p:nvPr/>
        </p:nvSpPr>
        <p:spPr>
          <a:xfrm>
            <a:off x="6191280" y="3581280"/>
            <a:ext cx="2351160" cy="14400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1" name="Oval 12"/>
          <p:cNvSpPr/>
          <p:nvPr/>
        </p:nvSpPr>
        <p:spPr>
          <a:xfrm>
            <a:off x="774720" y="3733920"/>
            <a:ext cx="2205000" cy="136836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2" name="Text Box 13"/>
          <p:cNvSpPr/>
          <p:nvPr/>
        </p:nvSpPr>
        <p:spPr>
          <a:xfrm>
            <a:off x="3708360" y="4110120"/>
            <a:ext cx="205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适应层次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3" name="Text Box 14"/>
          <p:cNvSpPr/>
          <p:nvPr/>
        </p:nvSpPr>
        <p:spPr>
          <a:xfrm>
            <a:off x="3521160" y="2744640"/>
            <a:ext cx="227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生理适应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4" name="Text Box 16"/>
          <p:cNvSpPr/>
          <p:nvPr/>
        </p:nvSpPr>
        <p:spPr>
          <a:xfrm>
            <a:off x="838080" y="4044960"/>
            <a:ext cx="20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技术适应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5" name="Oval 9"/>
          <p:cNvSpPr/>
          <p:nvPr/>
        </p:nvSpPr>
        <p:spPr>
          <a:xfrm>
            <a:off x="3411360" y="5089680"/>
            <a:ext cx="2351160" cy="1439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社会文化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适应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6" name="Text Box 14"/>
          <p:cNvSpPr/>
          <p:nvPr/>
        </p:nvSpPr>
        <p:spPr>
          <a:xfrm>
            <a:off x="6226200" y="4008600"/>
            <a:ext cx="227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心理适应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8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3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0" y="1371240"/>
            <a:ext cx="9144000" cy="52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适应的特性 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适应的最终目的是最大限度地维持机体的内稳态，维持个体最佳健康状态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适应是主动的自我调节，以保护自己免受伤害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适应包括多层面的、全身性的反应过程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适应能力因人而异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适应是有一定限度的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三）应激学说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全身适应综合征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0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general adaptation syndrome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，</a:t>
            </a:r>
            <a:r>
              <a:rPr b="0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GAS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局部适应综合征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0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local adaptation syndrome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，</a:t>
            </a:r>
            <a:r>
              <a:rPr b="0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LAS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zh-CN" sz="36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3" name="AutoShape 4"/>
          <p:cNvSpPr/>
          <p:nvPr/>
        </p:nvSpPr>
        <p:spPr>
          <a:xfrm>
            <a:off x="8555040" y="2997360"/>
            <a:ext cx="360360" cy="2233440"/>
          </a:xfrm>
          <a:custGeom>
            <a:avLst/>
            <a:gdLst>
              <a:gd name="textAreaLeft" fmla="*/ 0 w 360360"/>
              <a:gd name="textAreaRight" fmla="*/ 129960 w 360360"/>
              <a:gd name="textAreaTop" fmla="*/ 57960 h 2233440"/>
              <a:gd name="textAreaBottom" fmla="*/ 2175480 h 223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5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178920" y="1371240"/>
            <a:ext cx="8736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全身适应综合征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又称一般适应综合征，是个体对应激源做出的全身性、紧张性、防御性的非特异性反应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身体各个系统都参与反应过程，主要是神经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内分泌系统。其中下丘脑、垂体及肾上腺在应激反应中起到重要作用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3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09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4" descr=""/>
          <p:cNvPicPr/>
          <p:nvPr/>
        </p:nvPicPr>
        <p:blipFill>
          <a:blip r:embed="rId2"/>
          <a:stretch/>
        </p:blipFill>
        <p:spPr>
          <a:xfrm>
            <a:off x="0" y="228600"/>
            <a:ext cx="9144000" cy="629604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2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7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1125000"/>
            <a:ext cx="91440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分期：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）警觉期：或称警告期，交感神经系统被激活，释放大量的肾上腺素，导致机体处于警觉状态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）抵抗期：此期机体副交感神经兴奋对抗应激源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）耗竭期：当机体的抵抗能力不再能够应对应激源的刺激，且机体适应性能量资源储备已经耗尽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Rectangle 2"/>
          <p:cNvSpPr/>
          <p:nvPr/>
        </p:nvSpPr>
        <p:spPr>
          <a:xfrm>
            <a:off x="539640" y="126828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Rectangle 3"/>
          <p:cNvSpPr/>
          <p:nvPr/>
        </p:nvSpPr>
        <p:spPr>
          <a:xfrm>
            <a:off x="0" y="1916280"/>
            <a:ext cx="9144000" cy="41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理解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举例说明影响需要满足的因素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简述适应的层次和特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解释马斯洛的需要层次论、塞利的应激学说、奥瑞姆的自理理论、罗伊的适应模式的主要内容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-360" y="137124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局部适应综合征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是指机体在面对应激源时，除了产生全身反应之外，也会出现某一器官或区域的局部反应，称为局部适应综合征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如局部炎症、创伤愈合、血液凝聚等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1371600"/>
            <a:ext cx="91440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具备特点：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反应是短暂的，持续时间是确定的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反应是恢复性的，有助于机体组织、器官或局部恢复平衡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反应是在有应激源刺激时产生的、局部的，具有适应性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四）应激与适应理论在护理中的应用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识别患者常见的</a:t>
            </a:r>
            <a:r>
              <a:rPr b="1" lang="zh-CN" sz="3600" spc="-1" strike="noStrike">
                <a:solidFill>
                  <a:srgbClr val="800000"/>
                </a:solidFill>
                <a:latin typeface="宋体"/>
                <a:ea typeface="宋体"/>
              </a:rPr>
              <a:t>应激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分析患者</a:t>
            </a:r>
            <a:r>
              <a:rPr b="1" lang="zh-CN" sz="3600" spc="-1" strike="noStrike">
                <a:solidFill>
                  <a:srgbClr val="800000"/>
                </a:solidFill>
                <a:latin typeface="宋体"/>
                <a:ea typeface="宋体"/>
              </a:rPr>
              <a:t>应激状态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评价患者的应对方式及应对能力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应对策略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-360" y="137124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五）护士的应激与应对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6" name="Text Box 5"/>
          <p:cNvSpPr/>
          <p:nvPr/>
        </p:nvSpPr>
        <p:spPr>
          <a:xfrm>
            <a:off x="0" y="2565360"/>
            <a:ext cx="4356000" cy="350604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黑体"/>
                <a:ea typeface="黑体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．护士的应激源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不良的工作环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高风险的工作性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高强度的工作负荷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复杂的人际氛围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7" name="Text Box 6"/>
          <p:cNvSpPr/>
          <p:nvPr/>
        </p:nvSpPr>
        <p:spPr>
          <a:xfrm>
            <a:off x="4356000" y="2565360"/>
            <a:ext cx="4788000" cy="253116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黑体"/>
                <a:ea typeface="黑体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．应对策略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科学管理，减轻工作压力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加强护士心理素质训练，提高应对能力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树立乐观的职业观，积极应对压力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4" dur="500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3" dur="500"/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8" dur="500"/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3" dur="500"/>
                                        <p:tgtEl>
                                          <p:spTgt spid="3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8" dur="500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3" dur="500"/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8" dur="500"/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3" dur="500"/>
                                        <p:tgtEl>
                                          <p:spTgt spid="3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第二节 护理学理论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一、奥瑞姆的自理理论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0" y="140184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4" name="TextBox 7"/>
          <p:cNvSpPr/>
          <p:nvPr/>
        </p:nvSpPr>
        <p:spPr>
          <a:xfrm>
            <a:off x="0" y="2792520"/>
            <a:ext cx="6877080" cy="13737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1930</a:t>
            </a: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年，普罗维登斯医院护理学校（大专学历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1939</a:t>
            </a: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年，天主教大学（护理学学士学位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1945</a:t>
            </a: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年，天主教大学（护理教育硕士学位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5" name="TextBox 11"/>
          <p:cNvSpPr/>
          <p:nvPr/>
        </p:nvSpPr>
        <p:spPr>
          <a:xfrm>
            <a:off x="-17640" y="4608360"/>
            <a:ext cx="6839280" cy="94716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1971</a:t>
            </a: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年，</a:t>
            </a:r>
            <a:r>
              <a:rPr b="0" lang="en-US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《</a:t>
            </a: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护理：实践的概念</a:t>
            </a:r>
            <a:r>
              <a:rPr b="0" lang="en-US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《</a:t>
            </a:r>
            <a:r>
              <a:rPr b="0" i="1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Nursing</a:t>
            </a:r>
            <a:r>
              <a:rPr b="0" i="1" lang="zh-CN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：</a:t>
            </a:r>
            <a:r>
              <a:rPr b="0" i="1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From Concept to Practice</a:t>
            </a:r>
            <a:r>
              <a:rPr b="0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6" name="TextBox 6"/>
          <p:cNvSpPr/>
          <p:nvPr/>
        </p:nvSpPr>
        <p:spPr>
          <a:xfrm>
            <a:off x="-14400" y="2138400"/>
            <a:ext cx="6804000" cy="6541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1914</a:t>
            </a: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年，出生于美国马里兰州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37" name="Picture 15" descr="orem"/>
          <p:cNvPicPr/>
          <p:nvPr/>
        </p:nvPicPr>
        <p:blipFill>
          <a:blip r:embed="rId1"/>
          <a:stretch/>
        </p:blipFill>
        <p:spPr>
          <a:xfrm>
            <a:off x="6804000" y="2684520"/>
            <a:ext cx="2340000" cy="275580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0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3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6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自理理论的主要内容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自理理论对四个基本概念的阐述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自理理论在护理中的应用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57240" y="1441080"/>
            <a:ext cx="89056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一）自理理论主要内容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44" name="Group 43"/>
          <p:cNvGrpSpPr/>
          <p:nvPr/>
        </p:nvGrpSpPr>
        <p:grpSpPr>
          <a:xfrm>
            <a:off x="0" y="2637000"/>
            <a:ext cx="9119880" cy="3269880"/>
            <a:chOff x="0" y="2637000"/>
            <a:chExt cx="9119880" cy="3269880"/>
          </a:xfrm>
        </p:grpSpPr>
        <p:grpSp>
          <p:nvGrpSpPr>
            <p:cNvPr id="345" name="Group 3"/>
            <p:cNvGrpSpPr/>
            <p:nvPr/>
          </p:nvGrpSpPr>
          <p:grpSpPr>
            <a:xfrm>
              <a:off x="283680" y="3800880"/>
              <a:ext cx="6732720" cy="794880"/>
              <a:chOff x="283680" y="3800880"/>
              <a:chExt cx="6732720" cy="794880"/>
            </a:xfrm>
          </p:grpSpPr>
          <p:sp>
            <p:nvSpPr>
              <p:cNvPr id="346" name="AutoShape 4"/>
              <p:cNvSpPr/>
              <p:nvPr/>
            </p:nvSpPr>
            <p:spPr>
              <a:xfrm>
                <a:off x="283680" y="3800880"/>
                <a:ext cx="6732720" cy="794880"/>
              </a:xfrm>
              <a:prstGeom prst="roundRect">
                <a:avLst>
                  <a:gd name="adj" fmla="val 17509"/>
                </a:avLst>
              </a:prstGeom>
              <a:gradFill rotWithShape="0">
                <a:gsLst>
                  <a:gs pos="0">
                    <a:srgbClr val="1bafc3"/>
                  </a:gs>
                  <a:gs pos="50000">
                    <a:srgbClr val="19a1b4"/>
                  </a:gs>
                  <a:gs pos="100000">
                    <a:srgbClr val="1bafc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grpSp>
            <p:nvGrpSpPr>
              <p:cNvPr id="347" name="Group 5"/>
              <p:cNvGrpSpPr/>
              <p:nvPr/>
            </p:nvGrpSpPr>
            <p:grpSpPr>
              <a:xfrm>
                <a:off x="299880" y="3825360"/>
                <a:ext cx="6706080" cy="734760"/>
                <a:chOff x="299880" y="3825360"/>
                <a:chExt cx="6706080" cy="734760"/>
              </a:xfrm>
            </p:grpSpPr>
            <p:sp>
              <p:nvSpPr>
                <p:cNvPr id="348" name="AutoShape 6"/>
                <p:cNvSpPr/>
                <p:nvPr/>
              </p:nvSpPr>
              <p:spPr>
                <a:xfrm>
                  <a:off x="299880" y="4370040"/>
                  <a:ext cx="6706080" cy="19008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1bafc3">
                        <a:alpha val="0"/>
                      </a:srgbClr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349" name="AutoShape 7"/>
                <p:cNvSpPr/>
                <p:nvPr/>
              </p:nvSpPr>
              <p:spPr>
                <a:xfrm>
                  <a:off x="299880" y="3825360"/>
                  <a:ext cx="6706080" cy="19080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1bafc3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50" name="Group 8"/>
            <p:cNvGrpSpPr/>
            <p:nvPr/>
          </p:nvGrpSpPr>
          <p:grpSpPr>
            <a:xfrm>
              <a:off x="175680" y="5011920"/>
              <a:ext cx="6819480" cy="894960"/>
              <a:chOff x="175680" y="5011920"/>
              <a:chExt cx="6819480" cy="894960"/>
            </a:xfrm>
          </p:grpSpPr>
          <p:sp>
            <p:nvSpPr>
              <p:cNvPr id="351" name="AutoShape 9"/>
              <p:cNvSpPr/>
              <p:nvPr/>
            </p:nvSpPr>
            <p:spPr>
              <a:xfrm>
                <a:off x="175680" y="5011920"/>
                <a:ext cx="6819480" cy="894960"/>
              </a:xfrm>
              <a:prstGeom prst="roundRect">
                <a:avLst>
                  <a:gd name="adj" fmla="val 17509"/>
                </a:avLst>
              </a:prstGeom>
              <a:gradFill rotWithShape="0">
                <a:gsLst>
                  <a:gs pos="0">
                    <a:srgbClr val="98bf1d"/>
                  </a:gs>
                  <a:gs pos="50000">
                    <a:srgbClr val="8cb01b"/>
                  </a:gs>
                  <a:gs pos="100000">
                    <a:srgbClr val="98bf1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grpSp>
            <p:nvGrpSpPr>
              <p:cNvPr id="352" name="Group 10"/>
              <p:cNvGrpSpPr/>
              <p:nvPr/>
            </p:nvGrpSpPr>
            <p:grpSpPr>
              <a:xfrm>
                <a:off x="192240" y="5039640"/>
                <a:ext cx="6794280" cy="827640"/>
                <a:chOff x="192240" y="5039640"/>
                <a:chExt cx="6794280" cy="827640"/>
              </a:xfrm>
            </p:grpSpPr>
            <p:sp>
              <p:nvSpPr>
                <p:cNvPr id="353" name="AutoShape 11"/>
                <p:cNvSpPr/>
                <p:nvPr/>
              </p:nvSpPr>
              <p:spPr>
                <a:xfrm>
                  <a:off x="192240" y="5653080"/>
                  <a:ext cx="6794280" cy="21420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98bf1d">
                        <a:alpha val="0"/>
                      </a:srgbClr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354" name="AutoShape 12"/>
                <p:cNvSpPr/>
                <p:nvPr/>
              </p:nvSpPr>
              <p:spPr>
                <a:xfrm>
                  <a:off x="192240" y="5039640"/>
                  <a:ext cx="6794280" cy="2145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98bf1d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55" name="Text Box 24"/>
            <p:cNvSpPr/>
            <p:nvPr/>
          </p:nvSpPr>
          <p:spPr>
            <a:xfrm>
              <a:off x="873360" y="4003920"/>
              <a:ext cx="6145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自理缺陷理论 </a:t>
              </a:r>
              <a:r>
                <a:rPr b="0" lang="en-US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the theory of self-care deficit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6" name="Text Box 25"/>
            <p:cNvSpPr/>
            <p:nvPr/>
          </p:nvSpPr>
          <p:spPr>
            <a:xfrm>
              <a:off x="348840" y="5301000"/>
              <a:ext cx="6960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护理系统理论 </a:t>
              </a:r>
              <a:r>
                <a:rPr b="0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the theory of nursing system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pic>
          <p:nvPicPr>
            <p:cNvPr id="357" name="Picture 29" descr="1"/>
            <p:cNvPicPr/>
            <p:nvPr/>
          </p:nvPicPr>
          <p:blipFill>
            <a:blip r:embed="rId1"/>
            <a:srcRect l="42620" t="64489" r="19467" b="0"/>
            <a:stretch/>
          </p:blipFill>
          <p:spPr>
            <a:xfrm>
              <a:off x="59760" y="3789720"/>
              <a:ext cx="961560" cy="94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8" name="Text Box 33"/>
            <p:cNvSpPr/>
            <p:nvPr/>
          </p:nvSpPr>
          <p:spPr>
            <a:xfrm>
              <a:off x="451080" y="3888000"/>
              <a:ext cx="462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2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359" name="Group 42"/>
            <p:cNvGrpSpPr/>
            <p:nvPr/>
          </p:nvGrpSpPr>
          <p:grpSpPr>
            <a:xfrm>
              <a:off x="0" y="2637000"/>
              <a:ext cx="7752600" cy="949320"/>
              <a:chOff x="0" y="2637000"/>
              <a:chExt cx="7752600" cy="949320"/>
            </a:xfrm>
          </p:grpSpPr>
          <p:grpSp>
            <p:nvGrpSpPr>
              <p:cNvPr id="360" name="Group 18"/>
              <p:cNvGrpSpPr/>
              <p:nvPr/>
            </p:nvGrpSpPr>
            <p:grpSpPr>
              <a:xfrm>
                <a:off x="237240" y="2641680"/>
                <a:ext cx="6732360" cy="750960"/>
                <a:chOff x="237240" y="2641680"/>
                <a:chExt cx="6732360" cy="750960"/>
              </a:xfrm>
            </p:grpSpPr>
            <p:sp>
              <p:nvSpPr>
                <p:cNvPr id="361" name="AutoShape 19"/>
                <p:cNvSpPr/>
                <p:nvPr/>
              </p:nvSpPr>
              <p:spPr>
                <a:xfrm>
                  <a:off x="237240" y="2641680"/>
                  <a:ext cx="6732360" cy="750960"/>
                </a:xfrm>
                <a:prstGeom prst="roundRect">
                  <a:avLst>
                    <a:gd name="adj" fmla="val 17509"/>
                  </a:avLst>
                </a:prstGeom>
                <a:gradFill rotWithShape="0">
                  <a:gsLst>
                    <a:gs pos="0">
                      <a:srgbClr val="646ade"/>
                    </a:gs>
                    <a:gs pos="50000">
                      <a:srgbClr val="5c62cd"/>
                    </a:gs>
                    <a:gs pos="100000">
                      <a:srgbClr val="646ad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grpSp>
              <p:nvGrpSpPr>
                <p:cNvPr id="362" name="Group 20"/>
                <p:cNvGrpSpPr/>
                <p:nvPr/>
              </p:nvGrpSpPr>
              <p:grpSpPr>
                <a:xfrm>
                  <a:off x="253440" y="2665080"/>
                  <a:ext cx="6707160" cy="694080"/>
                  <a:chOff x="253440" y="2665080"/>
                  <a:chExt cx="6707160" cy="694080"/>
                </a:xfrm>
              </p:grpSpPr>
              <p:sp>
                <p:nvSpPr>
                  <p:cNvPr id="363" name="AutoShape 21"/>
                  <p:cNvSpPr/>
                  <p:nvPr/>
                </p:nvSpPr>
                <p:spPr>
                  <a:xfrm>
                    <a:off x="253440" y="3179520"/>
                    <a:ext cx="6707160" cy="17964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646ade">
                          <a:alpha val="0"/>
                        </a:srgbClr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4" name="AutoShape 22"/>
                  <p:cNvSpPr/>
                  <p:nvPr/>
                </p:nvSpPr>
                <p:spPr>
                  <a:xfrm>
                    <a:off x="253440" y="2665080"/>
                    <a:ext cx="6707160" cy="18000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646ade">
                          <a:alpha val="0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365" name="Text Box 23"/>
              <p:cNvSpPr/>
              <p:nvPr/>
            </p:nvSpPr>
            <p:spPr>
              <a:xfrm>
                <a:off x="803520" y="2820960"/>
                <a:ext cx="5998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自理理论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the theory of self-care</a:t>
                </a: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pic>
            <p:nvPicPr>
              <p:cNvPr id="366" name="Picture 30" descr="1"/>
              <p:cNvPicPr/>
              <p:nvPr/>
            </p:nvPicPr>
            <p:blipFill>
              <a:blip r:embed="rId2"/>
              <a:srcRect l="42620" t="64489" r="19467" b="0"/>
              <a:stretch/>
            </p:blipFill>
            <p:spPr>
              <a:xfrm>
                <a:off x="0" y="2637000"/>
                <a:ext cx="961920" cy="949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7" name="Text Box 32"/>
              <p:cNvSpPr/>
              <p:nvPr/>
            </p:nvSpPr>
            <p:spPr>
              <a:xfrm>
                <a:off x="389160" y="2733840"/>
                <a:ext cx="462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46ca6"/>
                    </a:solidFill>
                    <a:latin typeface="Arial"/>
                    <a:ea typeface="宋体"/>
                  </a:rPr>
                  <a:t>1</a:t>
                </a: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68" name="左箭头 20"/>
              <p:cNvSpPr/>
              <p:nvPr/>
            </p:nvSpPr>
            <p:spPr>
              <a:xfrm>
                <a:off x="7201440" y="2882880"/>
                <a:ext cx="551160" cy="158760"/>
              </a:xfrm>
              <a:prstGeom prst="leftArrow">
                <a:avLst>
                  <a:gd name="adj1" fmla="val 50000"/>
                  <a:gd name="adj2" fmla="val 60690"/>
                </a:avLst>
              </a:prstGeom>
              <a:solidFill>
                <a:srgbClr val="8ac8de"/>
              </a:solidFill>
              <a:ln w="25560">
                <a:solidFill>
                  <a:srgbClr val="6492a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69" name="TextBox 37"/>
            <p:cNvSpPr/>
            <p:nvPr/>
          </p:nvSpPr>
          <p:spPr>
            <a:xfrm>
              <a:off x="7977600" y="2708640"/>
              <a:ext cx="973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46ca6"/>
                  </a:solidFill>
                  <a:latin typeface="Times New Roman"/>
                  <a:ea typeface="宋体"/>
                </a:rPr>
                <a:t>what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70" name="左箭头 13"/>
            <p:cNvSpPr/>
            <p:nvPr/>
          </p:nvSpPr>
          <p:spPr>
            <a:xfrm>
              <a:off x="7200000" y="4094640"/>
              <a:ext cx="551160" cy="158400"/>
            </a:xfrm>
            <a:prstGeom prst="leftArrow">
              <a:avLst>
                <a:gd name="adj1" fmla="val 50000"/>
                <a:gd name="adj2" fmla="val 60828"/>
              </a:avLst>
            </a:prstGeom>
            <a:solidFill>
              <a:srgbClr val="8ac8de"/>
            </a:solidFill>
            <a:ln w="25560">
              <a:solidFill>
                <a:srgbClr val="6492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71" name="左箭头 14"/>
            <p:cNvSpPr/>
            <p:nvPr/>
          </p:nvSpPr>
          <p:spPr>
            <a:xfrm>
              <a:off x="7257600" y="5445360"/>
              <a:ext cx="555120" cy="158760"/>
            </a:xfrm>
            <a:prstGeom prst="leftArrow">
              <a:avLst>
                <a:gd name="adj1" fmla="val 50000"/>
                <a:gd name="adj2" fmla="val 60705"/>
              </a:avLst>
            </a:prstGeom>
            <a:solidFill>
              <a:srgbClr val="8ac8de"/>
            </a:solidFill>
            <a:ln w="25560">
              <a:solidFill>
                <a:srgbClr val="6492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72" name="TextBox 41"/>
            <p:cNvSpPr/>
            <p:nvPr/>
          </p:nvSpPr>
          <p:spPr>
            <a:xfrm>
              <a:off x="7934400" y="5156640"/>
              <a:ext cx="1185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46ca6"/>
                  </a:solidFill>
                  <a:latin typeface="Times New Roman"/>
                  <a:ea typeface="宋体"/>
                </a:rPr>
                <a:t>how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73" name="TextBox 39"/>
          <p:cNvSpPr/>
          <p:nvPr/>
        </p:nvSpPr>
        <p:spPr>
          <a:xfrm>
            <a:off x="7967520" y="3879720"/>
            <a:ext cx="99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when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74" name="Group 41"/>
          <p:cNvGrpSpPr/>
          <p:nvPr/>
        </p:nvGrpSpPr>
        <p:grpSpPr>
          <a:xfrm>
            <a:off x="0" y="5084640"/>
            <a:ext cx="790560" cy="949320"/>
            <a:chOff x="0" y="5084640"/>
            <a:chExt cx="790560" cy="949320"/>
          </a:xfrm>
        </p:grpSpPr>
        <p:pic>
          <p:nvPicPr>
            <p:cNvPr id="375" name="Picture 28" descr="1"/>
            <p:cNvPicPr/>
            <p:nvPr/>
          </p:nvPicPr>
          <p:blipFill>
            <a:blip r:embed="rId3"/>
            <a:srcRect l="42620" t="64489" r="19467" b="0"/>
            <a:stretch/>
          </p:blipFill>
          <p:spPr>
            <a:xfrm>
              <a:off x="0" y="5084640"/>
              <a:ext cx="790560" cy="94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6" name="Text Box 34"/>
            <p:cNvSpPr/>
            <p:nvPr/>
          </p:nvSpPr>
          <p:spPr>
            <a:xfrm>
              <a:off x="288720" y="515736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p:transition spd="slow">
    <p:randomBar dir="vert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自理理论  说明：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什么是自理？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人有哪些自理需要？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哪些因素会影响个体的自理能力？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-360" y="137124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自理缺陷理论   自理理论的核心内容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着重阐述了个体何时需要护理帮助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自理缺陷：当由于各种情况导致的个体的自理能力的下降或自理需求的增加，个体的自理能力不足以满足其治疗性自理需要时就存在自理缺陷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Rectangle 2"/>
          <p:cNvSpPr/>
          <p:nvPr/>
        </p:nvSpPr>
        <p:spPr>
          <a:xfrm>
            <a:off x="419040" y="116856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0" y="1762200"/>
            <a:ext cx="8915400" cy="483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运用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应用系统论分析护理工作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应用需要理论分析患者的需要并提出应对策略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应用应激学说分析患者的应激源并找出干预措施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应用奥瑞姆自理理论对具体个案进行分析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5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应用罗伊适应模式对具体个案进行分析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护理系统理论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着重阐述如何通过护理系统提供护理帮助，满足个体治疗性自理需要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奥瑞姆根据</a:t>
            </a:r>
            <a:r>
              <a:rPr b="1" lang="zh-CN" sz="3600" spc="-1" strike="noStrike" u="sng">
                <a:solidFill>
                  <a:srgbClr val="800000"/>
                </a:solidFill>
                <a:uFillTx/>
                <a:latin typeface="宋体"/>
                <a:ea typeface="宋体"/>
              </a:rPr>
              <a:t>患者的自理需要和自理能力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以及</a:t>
            </a:r>
            <a:r>
              <a:rPr b="1" lang="zh-CN" sz="3600" spc="-1" strike="noStrike" u="sng">
                <a:solidFill>
                  <a:srgbClr val="800000"/>
                </a:solidFill>
                <a:uFillTx/>
                <a:latin typeface="宋体"/>
                <a:ea typeface="宋体"/>
              </a:rPr>
              <a:t>护士提供的帮助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将护理系统分为三类： 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pic>
        <p:nvPicPr>
          <p:cNvPr id="387" name="内容占位符 4" descr=""/>
          <p:cNvPicPr/>
          <p:nvPr/>
        </p:nvPicPr>
        <p:blipFill>
          <a:blip r:embed="rId1"/>
          <a:stretch/>
        </p:blipFill>
        <p:spPr>
          <a:xfrm>
            <a:off x="0" y="1484280"/>
            <a:ext cx="9144000" cy="4392720"/>
          </a:xfrm>
          <a:prstGeom prst="rect">
            <a:avLst/>
          </a:prstGeom>
          <a:ln w="0">
            <a:noFill/>
          </a:ln>
        </p:spPr>
      </p:pic>
      <p:sp>
        <p:nvSpPr>
          <p:cNvPr id="3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90" name="Picture 4" descr="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29604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182520" y="143676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二）自理理论对四个基本概念的阐述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94" name="Group 9"/>
          <p:cNvGrpSpPr/>
          <p:nvPr/>
        </p:nvGrpSpPr>
        <p:grpSpPr>
          <a:xfrm>
            <a:off x="588960" y="2576520"/>
            <a:ext cx="1425240" cy="1031400"/>
            <a:chOff x="588960" y="2576520"/>
            <a:chExt cx="1425240" cy="1031400"/>
          </a:xfrm>
        </p:grpSpPr>
        <p:sp>
          <p:nvSpPr>
            <p:cNvPr id="395" name="Oval 10"/>
            <p:cNvSpPr/>
            <p:nvPr/>
          </p:nvSpPr>
          <p:spPr>
            <a:xfrm>
              <a:off x="622800" y="2607480"/>
              <a:ext cx="1359000" cy="1000440"/>
            </a:xfrm>
            <a:prstGeom prst="ellipse">
              <a:avLst/>
            </a:prstGeom>
            <a:solidFill>
              <a:srgbClr val="bb9abd"/>
            </a:solidFill>
            <a:ln w="38160">
              <a:solidFill>
                <a:srgbClr val="f8f8f8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pic>
          <p:nvPicPr>
            <p:cNvPr id="396" name="Picture 11" descr="cir_lighteffect0"/>
            <p:cNvPicPr/>
            <p:nvPr/>
          </p:nvPicPr>
          <p:blipFill>
            <a:blip r:embed="rId1"/>
            <a:stretch/>
          </p:blipFill>
          <p:spPr>
            <a:xfrm>
              <a:off x="588960" y="2576520"/>
              <a:ext cx="1425240" cy="908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97" name="Rectangle 12"/>
          <p:cNvSpPr/>
          <p:nvPr/>
        </p:nvSpPr>
        <p:spPr>
          <a:xfrm>
            <a:off x="595440" y="2762280"/>
            <a:ext cx="112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8f8f8"/>
                </a:solidFill>
                <a:latin typeface="黑体"/>
                <a:ea typeface="黑体"/>
              </a:rPr>
              <a:t> </a:t>
            </a:r>
            <a:r>
              <a:rPr b="0" lang="zh-CN" sz="3200" spc="-1" strike="noStrike">
                <a:solidFill>
                  <a:srgbClr val="f8f8f8"/>
                </a:solidFill>
                <a:latin typeface="黑体"/>
                <a:ea typeface="黑体"/>
              </a:rPr>
              <a:t>人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8" name="圆角矩形 8"/>
          <p:cNvSpPr/>
          <p:nvPr/>
        </p:nvSpPr>
        <p:spPr>
          <a:xfrm>
            <a:off x="171360" y="3573360"/>
            <a:ext cx="2197080" cy="2746440"/>
          </a:xfrm>
          <a:custGeom>
            <a:avLst/>
            <a:gdLst>
              <a:gd name="textAreaLeft" fmla="*/ 106920 w 2197080"/>
              <a:gd name="textAreaRight" fmla="*/ 2090160 w 2197080"/>
              <a:gd name="textAreaTop" fmla="*/ 106920 h 2746440"/>
              <a:gd name="textAreaBottom" fmla="*/ 2639520 h 2746440"/>
            </a:gdLst>
            <a:ahLst/>
            <a:rect l="textAreaLeft" t="textAreaTop" r="textAreaRight" b="textAreaBottom"/>
            <a:pathLst>
              <a:path w="21600" h="27000">
                <a:moveTo>
                  <a:pt x="3600" y="0"/>
                </a:moveTo>
                <a:arcTo wR="3600" hR="3600" stAng="16200000" swAng="-5400000"/>
                <a:lnTo>
                  <a:pt x="0" y="23400"/>
                </a:lnTo>
                <a:arcTo wR="3600" hR="3600" stAng="10800000" swAng="-5400000"/>
                <a:lnTo>
                  <a:pt x="18000" y="270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9" name="圆角矩形 34"/>
          <p:cNvSpPr/>
          <p:nvPr/>
        </p:nvSpPr>
        <p:spPr>
          <a:xfrm>
            <a:off x="4464000" y="3597120"/>
            <a:ext cx="2170080" cy="2746440"/>
          </a:xfrm>
          <a:custGeom>
            <a:avLst/>
            <a:gdLst>
              <a:gd name="textAreaLeft" fmla="*/ 105840 w 2170080"/>
              <a:gd name="textAreaRight" fmla="*/ 2064240 w 2170080"/>
              <a:gd name="textAreaTop" fmla="*/ 105840 h 2746440"/>
              <a:gd name="textAreaBottom" fmla="*/ 2640600 h 2746440"/>
            </a:gdLst>
            <a:ahLst/>
            <a:rect l="textAreaLeft" t="textAreaTop" r="textAreaRight" b="textAreaBottom"/>
            <a:pathLst>
              <a:path w="21600" h="27336">
                <a:moveTo>
                  <a:pt x="3600" y="0"/>
                </a:moveTo>
                <a:arcTo wR="3600" hR="3600" stAng="16200000" swAng="-5400000"/>
                <a:lnTo>
                  <a:pt x="0" y="23736"/>
                </a:lnTo>
                <a:arcTo wR="3600" hR="3600" stAng="10800000" swAng="-5400000"/>
                <a:lnTo>
                  <a:pt x="18000" y="2733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00" name="Group 9"/>
          <p:cNvGrpSpPr/>
          <p:nvPr/>
        </p:nvGrpSpPr>
        <p:grpSpPr>
          <a:xfrm>
            <a:off x="6878520" y="2652840"/>
            <a:ext cx="1427040" cy="1031400"/>
            <a:chOff x="6878520" y="2652840"/>
            <a:chExt cx="1427040" cy="1031400"/>
          </a:xfrm>
        </p:grpSpPr>
        <p:sp>
          <p:nvSpPr>
            <p:cNvPr id="401" name="Oval 10"/>
            <p:cNvSpPr/>
            <p:nvPr/>
          </p:nvSpPr>
          <p:spPr>
            <a:xfrm>
              <a:off x="6912360" y="2683800"/>
              <a:ext cx="1360800" cy="1000440"/>
            </a:xfrm>
            <a:prstGeom prst="ellipse">
              <a:avLst/>
            </a:prstGeom>
            <a:solidFill>
              <a:srgbClr val="bb9abd"/>
            </a:solidFill>
            <a:ln w="38160">
              <a:solidFill>
                <a:srgbClr val="f8f8f8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pic>
          <p:nvPicPr>
            <p:cNvPr id="402" name="Picture 11" descr="cir_lighteffect0"/>
            <p:cNvPicPr/>
            <p:nvPr/>
          </p:nvPicPr>
          <p:blipFill>
            <a:blip r:embed="rId2"/>
            <a:stretch/>
          </p:blipFill>
          <p:spPr>
            <a:xfrm>
              <a:off x="6878520" y="2652840"/>
              <a:ext cx="1427040" cy="908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3" name="圆角矩形 13"/>
          <p:cNvSpPr/>
          <p:nvPr/>
        </p:nvSpPr>
        <p:spPr>
          <a:xfrm>
            <a:off x="6588000" y="3665520"/>
            <a:ext cx="2127240" cy="2664000"/>
          </a:xfrm>
          <a:custGeom>
            <a:avLst/>
            <a:gdLst>
              <a:gd name="textAreaLeft" fmla="*/ 103680 w 2127240"/>
              <a:gd name="textAreaRight" fmla="*/ 2023560 w 2127240"/>
              <a:gd name="textAreaTop" fmla="*/ 103680 h 2664000"/>
              <a:gd name="textAreaBottom" fmla="*/ 2560320 h 2664000"/>
            </a:gdLst>
            <a:ahLst/>
            <a:rect l="textAreaLeft" t="textAreaTop" r="textAreaRight" b="textAreaBottom"/>
            <a:pathLst>
              <a:path w="21600" h="27049">
                <a:moveTo>
                  <a:pt x="3600" y="0"/>
                </a:moveTo>
                <a:arcTo wR="3600" hR="3600" stAng="16200000" swAng="-5400000"/>
                <a:lnTo>
                  <a:pt x="0" y="23449"/>
                </a:lnTo>
                <a:arcTo wR="3600" hR="3600" stAng="10800000" swAng="-5400000"/>
                <a:lnTo>
                  <a:pt x="18000" y="27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c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4" name="矩形 3"/>
          <p:cNvSpPr/>
          <p:nvPr/>
        </p:nvSpPr>
        <p:spPr>
          <a:xfrm>
            <a:off x="7045200" y="2814480"/>
            <a:ext cx="1244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05" name="Group 9"/>
          <p:cNvGrpSpPr/>
          <p:nvPr/>
        </p:nvGrpSpPr>
        <p:grpSpPr>
          <a:xfrm>
            <a:off x="2649600" y="2565360"/>
            <a:ext cx="1347480" cy="1031400"/>
            <a:chOff x="2649600" y="2565360"/>
            <a:chExt cx="1347480" cy="1031400"/>
          </a:xfrm>
        </p:grpSpPr>
        <p:sp>
          <p:nvSpPr>
            <p:cNvPr id="406" name="Oval 10"/>
            <p:cNvSpPr/>
            <p:nvPr/>
          </p:nvSpPr>
          <p:spPr>
            <a:xfrm>
              <a:off x="2681640" y="2596320"/>
              <a:ext cx="1287000" cy="1000440"/>
            </a:xfrm>
            <a:prstGeom prst="ellipse">
              <a:avLst/>
            </a:prstGeom>
            <a:solidFill>
              <a:srgbClr val="bb9abd"/>
            </a:solidFill>
            <a:ln w="38160">
              <a:solidFill>
                <a:srgbClr val="f8f8f8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pic>
          <p:nvPicPr>
            <p:cNvPr id="407" name="Picture 11" descr="cir_lighteffect0"/>
            <p:cNvPicPr/>
            <p:nvPr/>
          </p:nvPicPr>
          <p:blipFill>
            <a:blip r:embed="rId3"/>
            <a:stretch/>
          </p:blipFill>
          <p:spPr>
            <a:xfrm>
              <a:off x="2649600" y="2565360"/>
              <a:ext cx="1347480" cy="908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8" name="圆角矩形 18"/>
          <p:cNvSpPr/>
          <p:nvPr/>
        </p:nvSpPr>
        <p:spPr>
          <a:xfrm>
            <a:off x="2328840" y="3573360"/>
            <a:ext cx="2165400" cy="2746440"/>
          </a:xfrm>
          <a:custGeom>
            <a:avLst/>
            <a:gdLst>
              <a:gd name="textAreaLeft" fmla="*/ 105480 w 2165400"/>
              <a:gd name="textAreaRight" fmla="*/ 2059920 w 2165400"/>
              <a:gd name="textAreaTop" fmla="*/ 105480 h 2746440"/>
              <a:gd name="textAreaBottom" fmla="*/ 2640960 h 2746440"/>
            </a:gdLst>
            <a:ahLst/>
            <a:rect l="textAreaLeft" t="textAreaTop" r="textAreaRight" b="textAreaBottom"/>
            <a:pathLst>
              <a:path w="21600" h="27395">
                <a:moveTo>
                  <a:pt x="3600" y="0"/>
                </a:moveTo>
                <a:arcTo wR="3600" hR="3600" stAng="16200000" swAng="-5400000"/>
                <a:lnTo>
                  <a:pt x="0" y="23795"/>
                </a:lnTo>
                <a:arcTo wR="3600" hR="3600" stAng="10800000" swAng="-5400000"/>
                <a:lnTo>
                  <a:pt x="18000" y="2739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c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9" name="Rectangle 12"/>
          <p:cNvSpPr/>
          <p:nvPr/>
        </p:nvSpPr>
        <p:spPr>
          <a:xfrm>
            <a:off x="2468520" y="2781360"/>
            <a:ext cx="162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8f8f8"/>
                </a:solidFill>
                <a:latin typeface="黑体"/>
                <a:ea typeface="黑体"/>
              </a:rPr>
              <a:t> </a:t>
            </a:r>
            <a:r>
              <a:rPr b="0" lang="zh-CN" sz="3200" spc="-1" strike="noStrike">
                <a:solidFill>
                  <a:srgbClr val="f8f8f8"/>
                </a:solidFill>
                <a:latin typeface="黑体"/>
                <a:ea typeface="黑体"/>
              </a:rPr>
              <a:t>健康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10" name="Group 9"/>
          <p:cNvGrpSpPr/>
          <p:nvPr/>
        </p:nvGrpSpPr>
        <p:grpSpPr>
          <a:xfrm>
            <a:off x="4781520" y="2541600"/>
            <a:ext cx="1412640" cy="1104480"/>
            <a:chOff x="4781520" y="2541600"/>
            <a:chExt cx="1412640" cy="1104480"/>
          </a:xfrm>
        </p:grpSpPr>
        <p:sp>
          <p:nvSpPr>
            <p:cNvPr id="411" name="Oval 10"/>
            <p:cNvSpPr/>
            <p:nvPr/>
          </p:nvSpPr>
          <p:spPr>
            <a:xfrm>
              <a:off x="4815000" y="2574720"/>
              <a:ext cx="1347120" cy="1071360"/>
            </a:xfrm>
            <a:prstGeom prst="ellipse">
              <a:avLst/>
            </a:prstGeom>
            <a:solidFill>
              <a:srgbClr val="bb9abd"/>
            </a:solidFill>
            <a:ln w="38160">
              <a:solidFill>
                <a:srgbClr val="f8f8f8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pic>
          <p:nvPicPr>
            <p:cNvPr id="412" name="Picture 11" descr="cir_lighteffect0"/>
            <p:cNvPicPr/>
            <p:nvPr/>
          </p:nvPicPr>
          <p:blipFill>
            <a:blip r:embed="rId4"/>
            <a:stretch/>
          </p:blipFill>
          <p:spPr>
            <a:xfrm>
              <a:off x="4781520" y="2541600"/>
              <a:ext cx="1412640" cy="97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3" name="矩形 59"/>
          <p:cNvSpPr/>
          <p:nvPr/>
        </p:nvSpPr>
        <p:spPr>
          <a:xfrm>
            <a:off x="4809960" y="2781360"/>
            <a:ext cx="14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8f8f8"/>
                </a:solidFill>
                <a:latin typeface="Arial"/>
                <a:ea typeface="黑体"/>
              </a:rPr>
              <a:t>环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4" name="矩形 1"/>
          <p:cNvSpPr/>
          <p:nvPr/>
        </p:nvSpPr>
        <p:spPr>
          <a:xfrm>
            <a:off x="141120" y="3645000"/>
            <a:ext cx="222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人有学习和发展的能力；人不是通过本能而是通过学习行为来达到自我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5" name="矩形 54"/>
          <p:cNvSpPr/>
          <p:nvPr/>
        </p:nvSpPr>
        <p:spPr>
          <a:xfrm>
            <a:off x="2328840" y="3645000"/>
            <a:ext cx="224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WHO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健康定义健康不仅是没有疾病或虚弱，而且是一种生理、心理和社会文化的良好适应状态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6" name="矩形 6"/>
          <p:cNvSpPr/>
          <p:nvPr/>
        </p:nvSpPr>
        <p:spPr>
          <a:xfrm>
            <a:off x="4494240" y="3716280"/>
            <a:ext cx="203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黑体"/>
              </a:rPr>
              <a:t>环境是人以外的，所有可以影响人的自理能力的因素，包括物理、心理、社会等方面因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7" name="矩形 1"/>
          <p:cNvSpPr/>
          <p:nvPr/>
        </p:nvSpPr>
        <p:spPr>
          <a:xfrm>
            <a:off x="6588000" y="3754440"/>
            <a:ext cx="208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护理是为预防自理缺陷发展并为不能满足自理需要的个体提供帮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3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6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9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2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5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8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1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4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7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0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3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6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1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6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1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6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三）自理理论在护理中的应用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判断自理能力，评估自理需求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选择护理系统，实施护理方案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评价护理效果，调整护理方案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8305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二、罗伊的适应模式</a:t>
            </a:r>
            <a:r>
              <a:rPr b="0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 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304920" y="123156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4" name="TextBox 7"/>
          <p:cNvSpPr/>
          <p:nvPr/>
        </p:nvSpPr>
        <p:spPr>
          <a:xfrm>
            <a:off x="76320" y="2558880"/>
            <a:ext cx="6667560" cy="18003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1963</a:t>
            </a: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年，洛杉矶圣玛丽学院（护理学学士学位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1966</a:t>
            </a: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年，加利福尼亚大学（护理学硕士学位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1973</a:t>
            </a: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年，加利福尼亚大学（社会学硕士学位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1977</a:t>
            </a: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年，加利福尼亚大学（社会学博士学位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5" name="TextBox 11"/>
          <p:cNvSpPr/>
          <p:nvPr/>
        </p:nvSpPr>
        <p:spPr>
          <a:xfrm>
            <a:off x="76320" y="4724280"/>
            <a:ext cx="6689520" cy="94716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1976</a:t>
            </a: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年，《护理学导论：一种适应模式》</a:t>
            </a:r>
            <a:r>
              <a:rPr b="0" lang="en-US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《</a:t>
            </a:r>
            <a:r>
              <a:rPr b="0" i="1" lang="en-US" sz="28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Introduction to Nursing: An Adaptation Model</a:t>
            </a:r>
            <a:r>
              <a:rPr b="0" lang="en-US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6" name="TextBox 8"/>
          <p:cNvSpPr/>
          <p:nvPr/>
        </p:nvSpPr>
        <p:spPr>
          <a:xfrm>
            <a:off x="76320" y="2025720"/>
            <a:ext cx="6667560" cy="52056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1939</a:t>
            </a: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年，出生于美国洛杉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27" name="Picture 11" descr="roy"/>
          <p:cNvPicPr/>
          <p:nvPr/>
        </p:nvPicPr>
        <p:blipFill>
          <a:blip r:embed="rId1"/>
          <a:stretch/>
        </p:blipFill>
        <p:spPr>
          <a:xfrm>
            <a:off x="6804000" y="2367000"/>
            <a:ext cx="2424240" cy="309564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3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8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3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适应模式的基本内容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适应模式对四个基本概念的阐释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适应模式在护理中的应用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一）适应模式的基本内容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Roy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的适应模式是围绕人的适应行为，即人对周围环境中的刺激的适应而组织的。该模式在结构上包括五个部分，即输入、控制过程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应对机制、适应方式、输出和反馈 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7" name="Rectangle 19"/>
          <p:cNvSpPr/>
          <p:nvPr/>
        </p:nvSpPr>
        <p:spPr>
          <a:xfrm>
            <a:off x="0" y="2060640"/>
            <a:ext cx="9161640" cy="396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8" name="矩形 53"/>
          <p:cNvSpPr/>
          <p:nvPr/>
        </p:nvSpPr>
        <p:spPr>
          <a:xfrm>
            <a:off x="6818400" y="3068640"/>
            <a:ext cx="1803240" cy="2355840"/>
          </a:xfrm>
          <a:prstGeom prst="rect">
            <a:avLst/>
          </a:prstGeom>
          <a:solidFill>
            <a:srgbClr val="ccecff"/>
          </a:solidFill>
          <a:ln w="25560">
            <a:solidFill>
              <a:srgbClr val="ddb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适应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无效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39" name="Group 28"/>
          <p:cNvGrpSpPr/>
          <p:nvPr/>
        </p:nvGrpSpPr>
        <p:grpSpPr>
          <a:xfrm>
            <a:off x="1134720" y="5423760"/>
            <a:ext cx="6624720" cy="843840"/>
            <a:chOff x="1134720" y="5423760"/>
            <a:chExt cx="6624720" cy="843840"/>
          </a:xfrm>
        </p:grpSpPr>
        <p:sp>
          <p:nvSpPr>
            <p:cNvPr id="440" name="矩形 5"/>
            <p:cNvSpPr/>
            <p:nvPr/>
          </p:nvSpPr>
          <p:spPr>
            <a:xfrm>
              <a:off x="3295800" y="5712120"/>
              <a:ext cx="2369880" cy="555480"/>
            </a:xfrm>
            <a:prstGeom prst="rect">
              <a:avLst/>
            </a:prstGeom>
            <a:solidFill>
              <a:srgbClr val="7acd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反 馈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1" name="直接连接符 8"/>
            <p:cNvSpPr/>
            <p:nvPr/>
          </p:nvSpPr>
          <p:spPr>
            <a:xfrm flipH="1">
              <a:off x="5670360" y="6000840"/>
              <a:ext cx="2089080" cy="0"/>
            </a:xfrm>
            <a:prstGeom prst="line">
              <a:avLst/>
            </a:prstGeom>
            <a:ln w="381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2" name="直接连接符 9"/>
            <p:cNvSpPr/>
            <p:nvPr/>
          </p:nvSpPr>
          <p:spPr>
            <a:xfrm flipH="1">
              <a:off x="1134720" y="6000840"/>
              <a:ext cx="2158920" cy="0"/>
            </a:xfrm>
            <a:prstGeom prst="line">
              <a:avLst/>
            </a:prstGeom>
            <a:ln w="381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443" name="直接箭头连接符 31"/>
            <p:cNvCxnSpPr/>
            <p:nvPr/>
          </p:nvCxnSpPr>
          <p:spPr>
            <a:xfrm flipV="1">
              <a:off x="1135080" y="5423760"/>
              <a:ext cx="2160" cy="577080"/>
            </a:xfrm>
            <a:prstGeom prst="straightConnector1">
              <a:avLst/>
            </a:prstGeom>
            <a:ln w="38160">
              <a:solidFill>
                <a:srgbClr val="0033cc"/>
              </a:solidFill>
              <a:miter/>
              <a:tailEnd len="med" type="arrow" w="med"/>
            </a:ln>
          </p:spPr>
        </p:cxnSp>
      </p:grpSp>
      <p:sp>
        <p:nvSpPr>
          <p:cNvPr id="444" name="TextBox 1"/>
          <p:cNvSpPr/>
          <p:nvPr/>
        </p:nvSpPr>
        <p:spPr>
          <a:xfrm>
            <a:off x="766800" y="2509920"/>
            <a:ext cx="108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输入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5" name="TextBox 21"/>
          <p:cNvSpPr/>
          <p:nvPr/>
        </p:nvSpPr>
        <p:spPr>
          <a:xfrm>
            <a:off x="2489040" y="2516040"/>
            <a:ext cx="188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控制过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6" name="TextBox 22"/>
          <p:cNvSpPr/>
          <p:nvPr/>
        </p:nvSpPr>
        <p:spPr>
          <a:xfrm>
            <a:off x="5003640" y="2517840"/>
            <a:ext cx="13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效应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7" name="TextBox 23"/>
          <p:cNvSpPr/>
          <p:nvPr/>
        </p:nvSpPr>
        <p:spPr>
          <a:xfrm>
            <a:off x="7288200" y="2509920"/>
            <a:ext cx="12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输出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8" name="矩形 28"/>
          <p:cNvSpPr/>
          <p:nvPr/>
        </p:nvSpPr>
        <p:spPr>
          <a:xfrm>
            <a:off x="4657680" y="3068640"/>
            <a:ext cx="1876320" cy="2355840"/>
          </a:xfrm>
          <a:prstGeom prst="rect">
            <a:avLst/>
          </a:prstGeom>
          <a:solidFill>
            <a:srgbClr val="ccffcc"/>
          </a:solidFill>
          <a:ln w="25560">
            <a:solidFill>
              <a:srgbClr val="ddb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适应方式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生理功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自我概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角色功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互相依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9" name="矩形 29"/>
          <p:cNvSpPr/>
          <p:nvPr/>
        </p:nvSpPr>
        <p:spPr>
          <a:xfrm>
            <a:off x="250920" y="3068640"/>
            <a:ext cx="1778040" cy="2376360"/>
          </a:xfrm>
          <a:prstGeom prst="rect">
            <a:avLst/>
          </a:prstGeom>
          <a:solidFill>
            <a:srgbClr val="ffffcc"/>
          </a:solidFill>
          <a:ln w="25560">
            <a:solidFill>
              <a:srgbClr val="ddb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刺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适应水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50" name="矩形 30"/>
          <p:cNvSpPr/>
          <p:nvPr/>
        </p:nvSpPr>
        <p:spPr>
          <a:xfrm>
            <a:off x="2498760" y="3068640"/>
            <a:ext cx="1803240" cy="235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ddb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应对机制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调节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认知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451" name="直接箭头连接符 18"/>
          <p:cNvCxnSpPr/>
          <p:nvPr/>
        </p:nvCxnSpPr>
        <p:spPr>
          <a:xfrm flipV="1">
            <a:off x="7759800" y="5392080"/>
            <a:ext cx="2160" cy="577080"/>
          </a:xfrm>
          <a:prstGeom prst="straightConnector1">
            <a:avLst/>
          </a:prstGeom>
          <a:ln w="38160">
            <a:solidFill>
              <a:srgbClr val="0033cc"/>
            </a:solidFill>
            <a:miter/>
            <a:tailEnd len="med" type="arrow" w="med"/>
          </a:ln>
        </p:spPr>
      </p:cxnSp>
    </p:spTree>
  </p:cSld>
  <p:transition spd="slow">
    <p:randomBar dir="vert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-360" y="137160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55" name="左大括号 4"/>
          <p:cNvSpPr/>
          <p:nvPr/>
        </p:nvSpPr>
        <p:spPr>
          <a:xfrm>
            <a:off x="1179360" y="2604960"/>
            <a:ext cx="360360" cy="3322800"/>
          </a:xfrm>
          <a:custGeom>
            <a:avLst/>
            <a:gdLst>
              <a:gd name="textAreaLeft" fmla="*/ 230400 w 360360"/>
              <a:gd name="textAreaRight" fmla="*/ 360720 w 360360"/>
              <a:gd name="textAreaTop" fmla="*/ 9360 h 3322800"/>
              <a:gd name="textAreaBottom" fmla="*/ 3313440 h 3322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8"/>
                  <a:pt x="10800" y="195"/>
                </a:cubicBezTo>
                <a:lnTo>
                  <a:pt x="10800" y="10605"/>
                </a:lnTo>
                <a:cubicBezTo>
                  <a:pt x="10800" y="10703"/>
                  <a:pt x="5400" y="10800"/>
                  <a:pt x="0" y="10800"/>
                </a:cubicBezTo>
                <a:cubicBezTo>
                  <a:pt x="5400" y="10800"/>
                  <a:pt x="10800" y="10898"/>
                  <a:pt x="10800" y="10995"/>
                </a:cubicBezTo>
                <a:lnTo>
                  <a:pt x="10800" y="21405"/>
                </a:lnTo>
                <a:cubicBezTo>
                  <a:pt x="10800" y="21503"/>
                  <a:pt x="16200" y="21600"/>
                  <a:pt x="21600" y="21600"/>
                </a:cubicBezTo>
              </a:path>
            </a:pathLst>
          </a:custGeom>
          <a:noFill/>
          <a:ln w="66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56" name="圆角矩形 2"/>
          <p:cNvSpPr/>
          <p:nvPr/>
        </p:nvSpPr>
        <p:spPr>
          <a:xfrm>
            <a:off x="1619280" y="2095560"/>
            <a:ext cx="2376360" cy="973080"/>
          </a:xfrm>
          <a:prstGeom prst="roundRect">
            <a:avLst>
              <a:gd name="adj" fmla="val 16667"/>
            </a:avLst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主要刺激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黑体"/>
              </a:rPr>
              <a:t>focal stimuli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57" name="圆角矩形 6"/>
          <p:cNvSpPr/>
          <p:nvPr/>
        </p:nvSpPr>
        <p:spPr>
          <a:xfrm>
            <a:off x="1598760" y="3562200"/>
            <a:ext cx="2376360" cy="1343160"/>
          </a:xfrm>
          <a:prstGeom prst="roundRect">
            <a:avLst>
              <a:gd name="adj" fmla="val 16667"/>
            </a:avLst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相关刺激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黑体"/>
              </a:rPr>
              <a:t>contextual stimuli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58" name="圆角矩形 11"/>
          <p:cNvSpPr/>
          <p:nvPr/>
        </p:nvSpPr>
        <p:spPr>
          <a:xfrm>
            <a:off x="1627200" y="5259240"/>
            <a:ext cx="2368440" cy="992160"/>
          </a:xfrm>
          <a:prstGeom prst="roundRect">
            <a:avLst>
              <a:gd name="adj" fmla="val 16667"/>
            </a:avLst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固有刺激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黑体"/>
              </a:rPr>
              <a:t>residual stimuli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59" name="椭圆 8"/>
          <p:cNvGrpSpPr/>
          <p:nvPr/>
        </p:nvGrpSpPr>
        <p:grpSpPr>
          <a:xfrm>
            <a:off x="225360" y="3352680"/>
            <a:ext cx="817560" cy="1352520"/>
            <a:chOff x="225360" y="3352680"/>
            <a:chExt cx="817560" cy="1352520"/>
          </a:xfrm>
        </p:grpSpPr>
        <p:pic>
          <p:nvPicPr>
            <p:cNvPr id="460" name="椭圆 8" descr=""/>
            <p:cNvPicPr/>
            <p:nvPr/>
          </p:nvPicPr>
          <p:blipFill>
            <a:blip r:embed="rId1"/>
            <a:stretch/>
          </p:blipFill>
          <p:spPr>
            <a:xfrm>
              <a:off x="225360" y="3352680"/>
              <a:ext cx="817560" cy="135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1" name=""/>
            <p:cNvSpPr/>
            <p:nvPr/>
          </p:nvSpPr>
          <p:spPr>
            <a:xfrm>
              <a:off x="351000" y="3554280"/>
              <a:ext cx="566640" cy="9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46ca6"/>
                  </a:solidFill>
                  <a:latin typeface="Arial"/>
                  <a:ea typeface="楷体_GB2312"/>
                </a:rPr>
                <a:t>输入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62" name="Text Box 12"/>
          <p:cNvSpPr/>
          <p:nvPr/>
        </p:nvSpPr>
        <p:spPr>
          <a:xfrm>
            <a:off x="4211640" y="1989000"/>
            <a:ext cx="460836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黑体"/>
              </a:rPr>
              <a:t>例：一个手术后的患者，在术后两三天，疼痛可能是一个主要刺激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3" name="Text Box 13"/>
          <p:cNvSpPr/>
          <p:nvPr/>
        </p:nvSpPr>
        <p:spPr>
          <a:xfrm>
            <a:off x="4206960" y="3443400"/>
            <a:ext cx="460836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黑体"/>
              </a:rPr>
              <a:t>例：对于焦虑患者，听一些轻音乐有助于缓解焦虑，因此，焦虑是主要刺激，而轻音乐是相关刺激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4" name="Text Box 14"/>
          <p:cNvSpPr/>
          <p:nvPr/>
        </p:nvSpPr>
        <p:spPr>
          <a:xfrm>
            <a:off x="4206960" y="5329080"/>
            <a:ext cx="460836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黑体"/>
              </a:rPr>
              <a:t>如文化背景，以前的经历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554" dur="indefinite" restart="never" nodeType="tmRoot">
          <p:childTnLst>
            <p:seq>
              <p:cTn id="555" dur="indefinite" nodeType="mainSeq">
                <p:childTnLst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0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3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6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1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6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1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35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矩形 3"/>
          <p:cNvSpPr/>
          <p:nvPr/>
        </p:nvSpPr>
        <p:spPr>
          <a:xfrm>
            <a:off x="1071720" y="2428920"/>
            <a:ext cx="7429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第一节  护理学相关理论 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8" name="圆角矩形 3"/>
          <p:cNvSpPr/>
          <p:nvPr/>
        </p:nvSpPr>
        <p:spPr>
          <a:xfrm>
            <a:off x="468360" y="3249720"/>
            <a:ext cx="4174920" cy="3132000"/>
          </a:xfrm>
          <a:prstGeom prst="roundRect">
            <a:avLst>
              <a:gd name="adj" fmla="val 16667"/>
            </a:avLst>
          </a:prstGeom>
          <a:solidFill>
            <a:srgbClr val="ddb5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调节者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先天具备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通过神经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化学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内分泌过程调节与控制个体对刺激的自主性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9" name="圆角矩形 11"/>
          <p:cNvSpPr/>
          <p:nvPr/>
        </p:nvSpPr>
        <p:spPr>
          <a:xfrm>
            <a:off x="4567320" y="3249720"/>
            <a:ext cx="3984480" cy="2998800"/>
          </a:xfrm>
          <a:prstGeom prst="roundRect">
            <a:avLst>
              <a:gd name="adj" fmla="val 16667"/>
            </a:avLst>
          </a:prstGeom>
          <a:solidFill>
            <a:srgbClr val="c4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Arial"/>
                <a:ea typeface="楷体_GB2312"/>
              </a:rPr>
              <a:t>认知者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楷体_GB2312"/>
              </a:rPr>
              <a:t>后天习得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楷体_GB2312"/>
              </a:rPr>
              <a:t>通过认知、信息处理、学习、判断和情感调试等途径调节与控制个体对刺激的自主性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0" name="椭圆 6"/>
          <p:cNvGrpSpPr/>
          <p:nvPr/>
        </p:nvGrpSpPr>
        <p:grpSpPr>
          <a:xfrm>
            <a:off x="2432160" y="1889280"/>
            <a:ext cx="3182760" cy="933120"/>
            <a:chOff x="2432160" y="1889280"/>
            <a:chExt cx="3182760" cy="933120"/>
          </a:xfrm>
        </p:grpSpPr>
        <p:pic>
          <p:nvPicPr>
            <p:cNvPr id="471" name="椭圆 6" descr=""/>
            <p:cNvPicPr/>
            <p:nvPr/>
          </p:nvPicPr>
          <p:blipFill>
            <a:blip r:embed="rId1"/>
            <a:stretch/>
          </p:blipFill>
          <p:spPr>
            <a:xfrm>
              <a:off x="2432160" y="1889280"/>
              <a:ext cx="3182760" cy="93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2" name=""/>
            <p:cNvSpPr/>
            <p:nvPr/>
          </p:nvSpPr>
          <p:spPr>
            <a:xfrm>
              <a:off x="2901960" y="2028960"/>
              <a:ext cx="2243160" cy="65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46ca6"/>
                  </a:solidFill>
                  <a:latin typeface="Arial"/>
                  <a:ea typeface="楷体_GB2312"/>
                </a:rPr>
                <a:t>控制过程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cxnSp>
        <p:nvCxnSpPr>
          <p:cNvPr id="473" name="直接箭头连接符 7"/>
          <p:cNvCxnSpPr/>
          <p:nvPr/>
        </p:nvCxnSpPr>
        <p:spPr>
          <a:xfrm flipH="1">
            <a:off x="2490120" y="2811240"/>
            <a:ext cx="935640" cy="369000"/>
          </a:xfrm>
          <a:prstGeom prst="straightConnector1">
            <a:avLst/>
          </a:prstGeom>
          <a:ln w="38160">
            <a:solidFill>
              <a:srgbClr val="0033cc"/>
            </a:solidFill>
            <a:miter/>
            <a:tailEnd len="med" type="arrow" w="med"/>
          </a:ln>
        </p:spPr>
      </p:cxnSp>
      <p:cxnSp>
        <p:nvCxnSpPr>
          <p:cNvPr id="474" name="直接箭头连接符 8"/>
          <p:cNvCxnSpPr/>
          <p:nvPr/>
        </p:nvCxnSpPr>
        <p:spPr>
          <a:xfrm>
            <a:off x="4794120" y="2811240"/>
            <a:ext cx="866160" cy="432360"/>
          </a:xfrm>
          <a:prstGeom prst="straightConnector1">
            <a:avLst/>
          </a:prstGeom>
          <a:ln w="38160">
            <a:solidFill>
              <a:srgbClr val="0033cc"/>
            </a:solidFill>
            <a:miter/>
            <a:tailEnd len="med" type="arrow" w="med"/>
          </a:ln>
        </p:spPr>
      </p:cxnSp>
    </p:spTree>
  </p:cSld>
  <p:transition spd="slow">
    <p:randomBar dir="vert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476" name=""/>
          <p:cNvSpPr txBox="1"/>
          <p:nvPr/>
        </p:nvSpPr>
        <p:spPr>
          <a:xfrm>
            <a:off x="283680" y="165060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8" name="Group 20"/>
          <p:cNvGrpSpPr/>
          <p:nvPr/>
        </p:nvGrpSpPr>
        <p:grpSpPr>
          <a:xfrm>
            <a:off x="-133920" y="-221400"/>
            <a:ext cx="9032760" cy="8435880"/>
            <a:chOff x="-133920" y="-221400"/>
            <a:chExt cx="9032760" cy="8435880"/>
          </a:xfrm>
        </p:grpSpPr>
        <p:sp>
          <p:nvSpPr>
            <p:cNvPr id="479" name="Rectangle 55"/>
            <p:cNvSpPr/>
            <p:nvPr/>
          </p:nvSpPr>
          <p:spPr>
            <a:xfrm>
              <a:off x="3141360" y="2790000"/>
              <a:ext cx="1989360" cy="45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0" name="Rectangle 56"/>
            <p:cNvSpPr/>
            <p:nvPr/>
          </p:nvSpPr>
          <p:spPr>
            <a:xfrm>
              <a:off x="2735640" y="4575600"/>
              <a:ext cx="2336040" cy="45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1" name="AutoShape 249"/>
            <p:cNvSpPr/>
            <p:nvPr/>
          </p:nvSpPr>
          <p:spPr>
            <a:xfrm rot="19690800">
              <a:off x="748080" y="1287360"/>
              <a:ext cx="7268400" cy="5418000"/>
            </a:xfrm>
            <a:prstGeom prst="pie">
              <a:avLst/>
            </a:prstGeom>
            <a:solidFill>
              <a:srgbClr val="bbe0e3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2" name="Line 250"/>
            <p:cNvSpPr/>
            <p:nvPr/>
          </p:nvSpPr>
          <p:spPr>
            <a:xfrm flipH="1">
              <a:off x="4406400" y="1996560"/>
              <a:ext cx="1380960" cy="1897200"/>
            </a:xfrm>
            <a:prstGeom prst="line">
              <a:avLst/>
            </a:prstGeom>
            <a:ln w="57240">
              <a:solidFill>
                <a:srgbClr val="bbe0e3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3" name="Line 251"/>
            <p:cNvSpPr/>
            <p:nvPr/>
          </p:nvSpPr>
          <p:spPr>
            <a:xfrm>
              <a:off x="3754440" y="1957680"/>
              <a:ext cx="689760" cy="2005200"/>
            </a:xfrm>
            <a:prstGeom prst="line">
              <a:avLst/>
            </a:prstGeom>
            <a:ln w="57240">
              <a:solidFill>
                <a:srgbClr val="bbe0e3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4" name="Line 253"/>
            <p:cNvSpPr/>
            <p:nvPr/>
          </p:nvSpPr>
          <p:spPr>
            <a:xfrm>
              <a:off x="1867320" y="2716920"/>
              <a:ext cx="2558160" cy="1428840"/>
            </a:xfrm>
            <a:prstGeom prst="line">
              <a:avLst/>
            </a:prstGeom>
            <a:ln w="57240">
              <a:solidFill>
                <a:srgbClr val="bbe0e3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5" name="Line 254"/>
            <p:cNvSpPr/>
            <p:nvPr/>
          </p:nvSpPr>
          <p:spPr>
            <a:xfrm flipH="1">
              <a:off x="4745160" y="3106440"/>
              <a:ext cx="2419920" cy="750600"/>
            </a:xfrm>
            <a:prstGeom prst="line">
              <a:avLst/>
            </a:prstGeom>
            <a:ln w="57240">
              <a:solidFill>
                <a:srgbClr val="bbe0e3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486" name="Group 256"/>
            <p:cNvGrpSpPr/>
            <p:nvPr/>
          </p:nvGrpSpPr>
          <p:grpSpPr>
            <a:xfrm>
              <a:off x="2015640" y="1985760"/>
              <a:ext cx="5315400" cy="3962160"/>
              <a:chOff x="2015640" y="1985760"/>
              <a:chExt cx="5315400" cy="3962160"/>
            </a:xfrm>
          </p:grpSpPr>
          <p:sp>
            <p:nvSpPr>
              <p:cNvPr id="487" name="Oval 257"/>
              <p:cNvSpPr/>
              <p:nvPr/>
            </p:nvSpPr>
            <p:spPr>
              <a:xfrm>
                <a:off x="3195720" y="2865960"/>
                <a:ext cx="2954160" cy="2202120"/>
              </a:xfrm>
              <a:prstGeom prst="ellipse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8" name="AutoShape 258"/>
              <p:cNvSpPr/>
              <p:nvPr/>
            </p:nvSpPr>
            <p:spPr>
              <a:xfrm>
                <a:off x="2346480" y="2232720"/>
                <a:ext cx="4653000" cy="3467880"/>
              </a:xfrm>
              <a:prstGeom prst="pie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9" name="AutoShape 259"/>
              <p:cNvSpPr/>
              <p:nvPr/>
            </p:nvSpPr>
            <p:spPr>
              <a:xfrm>
                <a:off x="2015640" y="1985760"/>
                <a:ext cx="5315400" cy="3962160"/>
              </a:xfrm>
              <a:prstGeom prst="pie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490" name="Group 260"/>
            <p:cNvGrpSpPr/>
            <p:nvPr/>
          </p:nvGrpSpPr>
          <p:grpSpPr>
            <a:xfrm>
              <a:off x="3303360" y="2956320"/>
              <a:ext cx="2769840" cy="2070360"/>
              <a:chOff x="3303360" y="2956320"/>
              <a:chExt cx="2769840" cy="2070360"/>
            </a:xfrm>
          </p:grpSpPr>
          <p:sp>
            <p:nvSpPr>
              <p:cNvPr id="491" name="Oval 261"/>
              <p:cNvSpPr/>
              <p:nvPr/>
            </p:nvSpPr>
            <p:spPr>
              <a:xfrm>
                <a:off x="3303360" y="2956320"/>
                <a:ext cx="2769840" cy="207036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2" name="Oval 262"/>
              <p:cNvSpPr/>
              <p:nvPr/>
            </p:nvSpPr>
            <p:spPr>
              <a:xfrm>
                <a:off x="3337560" y="2967840"/>
                <a:ext cx="2704320" cy="20163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3" name="Oval 263"/>
              <p:cNvSpPr/>
              <p:nvPr/>
            </p:nvSpPr>
            <p:spPr>
              <a:xfrm>
                <a:off x="3363840" y="2986200"/>
                <a:ext cx="2574360" cy="18871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4" name="Oval 264"/>
              <p:cNvSpPr/>
              <p:nvPr/>
            </p:nvSpPr>
            <p:spPr>
              <a:xfrm>
                <a:off x="3515040" y="3039840"/>
                <a:ext cx="2290320" cy="1531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95" name="Rectangle 265"/>
            <p:cNvSpPr/>
            <p:nvPr/>
          </p:nvSpPr>
          <p:spPr>
            <a:xfrm>
              <a:off x="1648440" y="3780000"/>
              <a:ext cx="6071760" cy="617040"/>
            </a:xfrm>
            <a:prstGeom prst="rect">
              <a:avLst/>
            </a:prstGeom>
            <a:solidFill>
              <a:srgbClr val="afeaff"/>
            </a:solidFill>
            <a:ln w="0">
              <a:noFill/>
            </a:ln>
            <a:effectLst>
              <a:outerShdw dist="17819" dir="2700000" blurRad="0" rotWithShape="0">
                <a:srgbClr val="698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 algn="ctr">
                <a:tabLst>
                  <a:tab algn="l" pos="0"/>
                  <a:tab algn="l" pos="857160"/>
                  <a:tab algn="l" pos="1714680"/>
                  <a:tab algn="l" pos="2571840"/>
                  <a:tab algn="l" pos="3429000"/>
                  <a:tab algn="l" pos="4286160"/>
                  <a:tab algn="l" pos="5143680"/>
                  <a:tab algn="l" pos="6000840"/>
                  <a:tab algn="l" pos="6858000"/>
                  <a:tab algn="l" pos="7715160"/>
                  <a:tab algn="l" pos="8572680"/>
                  <a:tab algn="l" pos="9429840"/>
                  <a:tab algn="l" pos="102870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效应器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496" name="Group 276"/>
            <p:cNvGrpSpPr/>
            <p:nvPr/>
          </p:nvGrpSpPr>
          <p:grpSpPr>
            <a:xfrm>
              <a:off x="7351200" y="2202120"/>
              <a:ext cx="1410840" cy="1055160"/>
              <a:chOff x="7351200" y="2202120"/>
              <a:chExt cx="1410840" cy="1055160"/>
            </a:xfrm>
          </p:grpSpPr>
          <p:sp>
            <p:nvSpPr>
              <p:cNvPr id="497" name="Oval 277"/>
              <p:cNvSpPr/>
              <p:nvPr/>
            </p:nvSpPr>
            <p:spPr>
              <a:xfrm>
                <a:off x="7351200" y="2202120"/>
                <a:ext cx="1410840" cy="1055160"/>
              </a:xfrm>
              <a:prstGeom prst="ellipse">
                <a:avLst/>
              </a:prstGeom>
              <a:gradFill rotWithShape="0">
                <a:gsLst>
                  <a:gs pos="0">
                    <a:srgbClr val="765e00"/>
                  </a:gs>
                  <a:gs pos="100000">
                    <a:srgbClr val="ff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8" name="Oval 278"/>
              <p:cNvSpPr/>
              <p:nvPr/>
            </p:nvSpPr>
            <p:spPr>
              <a:xfrm>
                <a:off x="7369560" y="2215440"/>
                <a:ext cx="1378440" cy="1027800"/>
              </a:xfrm>
              <a:prstGeom prst="ellipse">
                <a:avLst/>
              </a:prstGeom>
              <a:gradFill rotWithShape="0">
                <a:gsLst>
                  <a:gs pos="0">
                    <a:srgbClr val="ffcc00">
                      <a:alpha val="0"/>
                    </a:srgbClr>
                  </a:gs>
                  <a:gs pos="100000">
                    <a:srgbClr val="ffeda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9" name="Oval 279"/>
              <p:cNvSpPr/>
              <p:nvPr/>
            </p:nvSpPr>
            <p:spPr>
              <a:xfrm>
                <a:off x="7401600" y="2248560"/>
                <a:ext cx="1311480" cy="961560"/>
              </a:xfrm>
              <a:prstGeom prst="ellipse">
                <a:avLst/>
              </a:prstGeom>
              <a:gradFill rotWithShape="0">
                <a:gsLst>
                  <a:gs pos="0">
                    <a:srgbClr val="caa200"/>
                  </a:gs>
                  <a:gs pos="100000">
                    <a:srgbClr val="ffcc00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0" name="Oval 280"/>
              <p:cNvSpPr/>
              <p:nvPr/>
            </p:nvSpPr>
            <p:spPr>
              <a:xfrm>
                <a:off x="7474680" y="2210760"/>
                <a:ext cx="1167840" cy="7797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c00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01" name="Group 291"/>
            <p:cNvGrpSpPr/>
            <p:nvPr/>
          </p:nvGrpSpPr>
          <p:grpSpPr>
            <a:xfrm>
              <a:off x="2476080" y="968400"/>
              <a:ext cx="1410840" cy="1055160"/>
              <a:chOff x="2476080" y="968400"/>
              <a:chExt cx="1410840" cy="1055160"/>
            </a:xfrm>
          </p:grpSpPr>
          <p:sp>
            <p:nvSpPr>
              <p:cNvPr id="502" name="Oval 292"/>
              <p:cNvSpPr/>
              <p:nvPr/>
            </p:nvSpPr>
            <p:spPr>
              <a:xfrm>
                <a:off x="2476080" y="968400"/>
                <a:ext cx="1410840" cy="1055160"/>
              </a:xfrm>
              <a:prstGeom prst="ellipse">
                <a:avLst/>
              </a:prstGeom>
              <a:gradFill rotWithShape="0">
                <a:gsLst>
                  <a:gs pos="0">
                    <a:srgbClr val="76185e"/>
                  </a:gs>
                  <a:gs pos="100000">
                    <a:srgbClr val="ff33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3" name="Oval 293"/>
              <p:cNvSpPr/>
              <p:nvPr/>
            </p:nvSpPr>
            <p:spPr>
              <a:xfrm>
                <a:off x="2491920" y="982080"/>
                <a:ext cx="1378800" cy="1027440"/>
              </a:xfrm>
              <a:prstGeom prst="ellipse">
                <a:avLst/>
              </a:prstGeom>
              <a:gradFill rotWithShape="0">
                <a:gsLst>
                  <a:gs pos="0">
                    <a:srgbClr val="ff33cc">
                      <a:alpha val="0"/>
                    </a:srgbClr>
                  </a:gs>
                  <a:gs pos="100000">
                    <a:srgbClr val="ffb8e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4" name="Oval 294"/>
              <p:cNvSpPr/>
              <p:nvPr/>
            </p:nvSpPr>
            <p:spPr>
              <a:xfrm>
                <a:off x="2526480" y="1013400"/>
                <a:ext cx="1312200" cy="961560"/>
              </a:xfrm>
              <a:prstGeom prst="ellipse">
                <a:avLst/>
              </a:prstGeom>
              <a:gradFill rotWithShape="0">
                <a:gsLst>
                  <a:gs pos="0">
                    <a:srgbClr val="ca28a2"/>
                  </a:gs>
                  <a:gs pos="100000">
                    <a:srgbClr val="ff33cc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5" name="Oval 295"/>
              <p:cNvSpPr/>
              <p:nvPr/>
            </p:nvSpPr>
            <p:spPr>
              <a:xfrm>
                <a:off x="2599560" y="989640"/>
                <a:ext cx="1167840" cy="7797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33cc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06" name="Group 48"/>
            <p:cNvGrpSpPr/>
            <p:nvPr/>
          </p:nvGrpSpPr>
          <p:grpSpPr>
            <a:xfrm>
              <a:off x="543600" y="2066040"/>
              <a:ext cx="1495800" cy="1055160"/>
              <a:chOff x="543600" y="2066040"/>
              <a:chExt cx="1495800" cy="1055160"/>
            </a:xfrm>
          </p:grpSpPr>
          <p:sp>
            <p:nvSpPr>
              <p:cNvPr id="507" name="Oval 297"/>
              <p:cNvSpPr/>
              <p:nvPr/>
            </p:nvSpPr>
            <p:spPr>
              <a:xfrm>
                <a:off x="543600" y="2066040"/>
                <a:ext cx="1410480" cy="1055160"/>
              </a:xfrm>
              <a:prstGeom prst="ellipse">
                <a:avLst/>
              </a:prstGeom>
              <a:gradFill rotWithShape="0">
                <a:gsLst>
                  <a:gs pos="0">
                    <a:srgbClr val="2f2f76"/>
                  </a:gs>
                  <a:gs pos="100000">
                    <a:srgbClr val="66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8" name="Oval 298"/>
              <p:cNvSpPr/>
              <p:nvPr/>
            </p:nvSpPr>
            <p:spPr>
              <a:xfrm>
                <a:off x="561960" y="2079360"/>
                <a:ext cx="1378080" cy="1027800"/>
              </a:xfrm>
              <a:prstGeom prst="ellipse">
                <a:avLst/>
              </a:prstGeom>
              <a:gradFill rotWithShape="0">
                <a:gsLst>
                  <a:gs pos="0">
                    <a:srgbClr val="6666ff">
                      <a:alpha val="0"/>
                    </a:srgbClr>
                  </a:gs>
                  <a:gs pos="100000">
                    <a:srgbClr val="caca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9" name="Oval 299"/>
              <p:cNvSpPr/>
              <p:nvPr/>
            </p:nvSpPr>
            <p:spPr>
              <a:xfrm>
                <a:off x="594360" y="2112480"/>
                <a:ext cx="1311120" cy="961560"/>
              </a:xfrm>
              <a:prstGeom prst="ellipse">
                <a:avLst/>
              </a:prstGeom>
              <a:gradFill rotWithShape="0">
                <a:gsLst>
                  <a:gs pos="0">
                    <a:srgbClr val="5151ca"/>
                  </a:gs>
                  <a:gs pos="100000">
                    <a:srgbClr val="6666ff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0" name="Oval 300"/>
              <p:cNvSpPr/>
              <p:nvPr/>
            </p:nvSpPr>
            <p:spPr>
              <a:xfrm>
                <a:off x="667080" y="2080800"/>
                <a:ext cx="1372320" cy="7797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6666ff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1" name="Rectangle 53"/>
            <p:cNvSpPr/>
            <p:nvPr/>
          </p:nvSpPr>
          <p:spPr>
            <a:xfrm>
              <a:off x="2455560" y="1055880"/>
              <a:ext cx="14277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自我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概念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2" name="Text Box 54"/>
            <p:cNvSpPr/>
            <p:nvPr/>
          </p:nvSpPr>
          <p:spPr>
            <a:xfrm>
              <a:off x="415800" y="2130840"/>
              <a:ext cx="17114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生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功能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513" name="Group 55"/>
            <p:cNvGrpSpPr/>
            <p:nvPr/>
          </p:nvGrpSpPr>
          <p:grpSpPr>
            <a:xfrm>
              <a:off x="5280840" y="829440"/>
              <a:ext cx="1758600" cy="1716120"/>
              <a:chOff x="5280840" y="829440"/>
              <a:chExt cx="1758600" cy="1716120"/>
            </a:xfrm>
          </p:grpSpPr>
          <p:sp>
            <p:nvSpPr>
              <p:cNvPr id="514" name="Oval 287"/>
              <p:cNvSpPr/>
              <p:nvPr/>
            </p:nvSpPr>
            <p:spPr>
              <a:xfrm>
                <a:off x="5511960" y="968400"/>
                <a:ext cx="1410840" cy="1054800"/>
              </a:xfrm>
              <a:prstGeom prst="ellipse">
                <a:avLst/>
              </a:prstGeom>
              <a:gradFill rotWithShape="0">
                <a:gsLst>
                  <a:gs pos="0">
                    <a:srgbClr val="762f00"/>
                  </a:gs>
                  <a:gs pos="100000">
                    <a:srgbClr val="ff66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5" name="Oval 288"/>
              <p:cNvSpPr/>
              <p:nvPr/>
            </p:nvSpPr>
            <p:spPr>
              <a:xfrm rot="846600">
                <a:off x="5529960" y="981720"/>
                <a:ext cx="1378800" cy="1027800"/>
              </a:xfrm>
              <a:prstGeom prst="ellipse">
                <a:avLst/>
              </a:prstGeom>
              <a:gradFill rotWithShape="0">
                <a:gsLst>
                  <a:gs pos="0">
                    <a:srgbClr val="ff6600">
                      <a:alpha val="0"/>
                    </a:srgbClr>
                  </a:gs>
                  <a:gs pos="100000">
                    <a:srgbClr val="ffcaa6"/>
                  </a:gs>
                </a:gsLst>
                <a:lin ang="4554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6" name="Oval 289"/>
              <p:cNvSpPr/>
              <p:nvPr/>
            </p:nvSpPr>
            <p:spPr>
              <a:xfrm>
                <a:off x="5603040" y="1036440"/>
                <a:ext cx="1311840" cy="960840"/>
              </a:xfrm>
              <a:prstGeom prst="ellipse">
                <a:avLst/>
              </a:prstGeom>
              <a:gradFill rotWithShape="0">
                <a:gsLst>
                  <a:gs pos="0">
                    <a:srgbClr val="ca5100"/>
                  </a:gs>
                  <a:gs pos="100000">
                    <a:srgbClr val="ff6600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7" name="Oval 290"/>
              <p:cNvSpPr/>
              <p:nvPr/>
            </p:nvSpPr>
            <p:spPr>
              <a:xfrm>
                <a:off x="5603040" y="1036440"/>
                <a:ext cx="1167840" cy="7797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6600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8" name="Text Box 60"/>
              <p:cNvSpPr/>
              <p:nvPr/>
            </p:nvSpPr>
            <p:spPr>
              <a:xfrm rot="834000">
                <a:off x="5424120" y="1015200"/>
                <a:ext cx="1471680" cy="1373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46ca6"/>
                    </a:solidFill>
                    <a:latin typeface="Arial"/>
                    <a:ea typeface="黑体"/>
                  </a:rPr>
                  <a:t>角色</a:t>
                </a: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46ca6"/>
                    </a:solidFill>
                    <a:latin typeface="Arial"/>
                    <a:ea typeface="黑体"/>
                  </a:rPr>
                  <a:t>功能</a:t>
                </a: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9" name="Text Box 61"/>
            <p:cNvSpPr/>
            <p:nvPr/>
          </p:nvSpPr>
          <p:spPr>
            <a:xfrm>
              <a:off x="7331040" y="2251800"/>
              <a:ext cx="15634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相互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依赖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p:transition spd="slow">
    <p:randomBar dir="vert"/>
  </p:transition>
  <p:timing>
    <p:tnLst>
      <p:par>
        <p:cTn id="582" dur="indefinite" restart="never" nodeType="tmRoot">
          <p:childTnLst>
            <p:seq>
              <p:cTn id="583" dur="indefinite" nodeType="mainSeq">
                <p:childTnLst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8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521" name=""/>
          <p:cNvSpPr txBox="1"/>
          <p:nvPr/>
        </p:nvSpPr>
        <p:spPr>
          <a:xfrm>
            <a:off x="-360" y="137124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3" name="流程图: 决策 4"/>
          <p:cNvSpPr/>
          <p:nvPr/>
        </p:nvSpPr>
        <p:spPr>
          <a:xfrm>
            <a:off x="3081240" y="2421000"/>
            <a:ext cx="2247840" cy="1079280"/>
          </a:xfrm>
          <a:prstGeom prst="flowChartDecision">
            <a:avLst/>
          </a:prstGeom>
          <a:solidFill>
            <a:srgbClr val="8fdaff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  <a:ea typeface="楷体_GB2312"/>
              </a:rPr>
              <a:t>适应水平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524" name="矩形 5" descr=""/>
          <p:cNvPicPr/>
          <p:nvPr/>
        </p:nvPicPr>
        <p:blipFill>
          <a:blip r:embed="rId1"/>
          <a:stretch/>
        </p:blipFill>
        <p:spPr>
          <a:xfrm>
            <a:off x="1779480" y="2127240"/>
            <a:ext cx="1683000" cy="1438200"/>
          </a:xfrm>
          <a:prstGeom prst="rect">
            <a:avLst/>
          </a:prstGeom>
          <a:ln w="0">
            <a:noFill/>
          </a:ln>
        </p:spPr>
      </p:pic>
      <p:sp>
        <p:nvSpPr>
          <p:cNvPr id="525" name="右箭头 6"/>
          <p:cNvSpPr/>
          <p:nvPr/>
        </p:nvSpPr>
        <p:spPr>
          <a:xfrm>
            <a:off x="5356080" y="2873520"/>
            <a:ext cx="955800" cy="260280"/>
          </a:xfrm>
          <a:prstGeom prst="rightArrow">
            <a:avLst>
              <a:gd name="adj1" fmla="val 50000"/>
              <a:gd name="adj2" fmla="val 50017"/>
            </a:avLst>
          </a:prstGeom>
          <a:solidFill>
            <a:srgbClr val="8fdaff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6" name="TextBox 5"/>
          <p:cNvSpPr/>
          <p:nvPr/>
        </p:nvSpPr>
        <p:spPr>
          <a:xfrm>
            <a:off x="6145200" y="2692440"/>
            <a:ext cx="277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  <a:ea typeface="楷体_GB2312"/>
              </a:rPr>
              <a:t>无效性反应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7" name="流程图: 决策 8"/>
          <p:cNvSpPr/>
          <p:nvPr/>
        </p:nvSpPr>
        <p:spPr>
          <a:xfrm>
            <a:off x="231840" y="4064040"/>
            <a:ext cx="2035080" cy="1079640"/>
          </a:xfrm>
          <a:prstGeom prst="flowChartDecision">
            <a:avLst/>
          </a:prstGeom>
          <a:solidFill>
            <a:srgbClr val="8fdaff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  <a:ea typeface="楷体_GB2312"/>
              </a:rPr>
              <a:t>刺激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8" name="流程图: 决策 9"/>
          <p:cNvSpPr/>
          <p:nvPr/>
        </p:nvSpPr>
        <p:spPr>
          <a:xfrm>
            <a:off x="3081240" y="4064040"/>
            <a:ext cx="2251080" cy="1079640"/>
          </a:xfrm>
          <a:prstGeom prst="flowChartDecision">
            <a:avLst/>
          </a:prstGeom>
          <a:solidFill>
            <a:srgbClr val="8fdaff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  <a:ea typeface="楷体_GB2312"/>
              </a:rPr>
              <a:t>适应水平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529" name="矩形 10" descr=""/>
          <p:cNvPicPr/>
          <p:nvPr/>
        </p:nvPicPr>
        <p:blipFill>
          <a:blip r:embed="rId2"/>
          <a:stretch/>
        </p:blipFill>
        <p:spPr>
          <a:xfrm>
            <a:off x="1743120" y="3816360"/>
            <a:ext cx="1682640" cy="1438200"/>
          </a:xfrm>
          <a:prstGeom prst="rect">
            <a:avLst/>
          </a:prstGeom>
          <a:ln w="0">
            <a:noFill/>
          </a:ln>
        </p:spPr>
      </p:pic>
      <p:sp>
        <p:nvSpPr>
          <p:cNvPr id="530" name="右箭头 11"/>
          <p:cNvSpPr/>
          <p:nvPr/>
        </p:nvSpPr>
        <p:spPr>
          <a:xfrm>
            <a:off x="5375160" y="4475160"/>
            <a:ext cx="957240" cy="262080"/>
          </a:xfrm>
          <a:prstGeom prst="rightArrow">
            <a:avLst>
              <a:gd name="adj1" fmla="val 50000"/>
              <a:gd name="adj2" fmla="val 49968"/>
            </a:avLst>
          </a:prstGeom>
          <a:solidFill>
            <a:srgbClr val="8fdaff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31" name="TextBox 17"/>
          <p:cNvSpPr/>
          <p:nvPr/>
        </p:nvSpPr>
        <p:spPr>
          <a:xfrm>
            <a:off x="6311880" y="4303800"/>
            <a:ext cx="252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  <a:ea typeface="楷体_GB2312"/>
              </a:rPr>
              <a:t>适应性反应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32" name="流程图: 决策 13"/>
          <p:cNvSpPr/>
          <p:nvPr/>
        </p:nvSpPr>
        <p:spPr>
          <a:xfrm>
            <a:off x="162000" y="2421000"/>
            <a:ext cx="2104920" cy="1079280"/>
          </a:xfrm>
          <a:prstGeom prst="flowChartDecision">
            <a:avLst/>
          </a:prstGeom>
          <a:solidFill>
            <a:srgbClr val="8fdaff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  <a:ea typeface="楷体_GB2312"/>
              </a:rPr>
              <a:t>刺激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5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8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1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4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7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2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5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8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1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4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534" name=""/>
          <p:cNvSpPr txBox="1"/>
          <p:nvPr/>
        </p:nvSpPr>
        <p:spPr>
          <a:xfrm>
            <a:off x="-360" y="1371240"/>
            <a:ext cx="8915400" cy="50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生理功能：是与人的生理需要相关的适应方式类型，是指人类机体的细胞、组织、器官和系统进行生理活动的外在表现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自我概念：是个体在某一时间对自我的感觉、评价和信念，自我概念的形成源于自身的感知和他人的评价，经过自我内化而形成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-360" y="1371240"/>
            <a:ext cx="8915400" cy="52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角色功能：是个体履行所承担的角色以及满足社会对其角色期待的情况。角色分为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主要角色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次要角色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临时角色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相互依赖：是个体与其重要关系着或者支持系统间的相互关系，包括爱、尊重、价值观等方面的互动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540" name=""/>
          <p:cNvSpPr txBox="1"/>
          <p:nvPr/>
        </p:nvSpPr>
        <p:spPr>
          <a:xfrm>
            <a:off x="28728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罗伊认为：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人对变化能否适应取决于输入的刺激和人的适应水平的综合效应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的目的是促进个体的适应性反应，减少或消除无效反应，从而促进个体恢复和维持健康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31320" y="1506600"/>
            <a:ext cx="86108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二）适应模式对四个基本概念的阐释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545" name="Group 9"/>
          <p:cNvGrpSpPr/>
          <p:nvPr/>
        </p:nvGrpSpPr>
        <p:grpSpPr>
          <a:xfrm>
            <a:off x="600120" y="2732040"/>
            <a:ext cx="1368000" cy="1031400"/>
            <a:chOff x="600120" y="2732040"/>
            <a:chExt cx="1368000" cy="1031400"/>
          </a:xfrm>
        </p:grpSpPr>
        <p:sp>
          <p:nvSpPr>
            <p:cNvPr id="546" name="Oval 10"/>
            <p:cNvSpPr/>
            <p:nvPr/>
          </p:nvSpPr>
          <p:spPr>
            <a:xfrm>
              <a:off x="632520" y="2763000"/>
              <a:ext cx="1301040" cy="1000440"/>
            </a:xfrm>
            <a:prstGeom prst="ellipse">
              <a:avLst/>
            </a:prstGeom>
            <a:solidFill>
              <a:srgbClr val="bb9abd"/>
            </a:solidFill>
            <a:ln w="38160">
              <a:solidFill>
                <a:srgbClr val="f8f8f8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pic>
          <p:nvPicPr>
            <p:cNvPr id="547" name="Picture 11" descr="cir_lighteffect0"/>
            <p:cNvPicPr/>
            <p:nvPr/>
          </p:nvPicPr>
          <p:blipFill>
            <a:blip r:embed="rId1"/>
            <a:stretch/>
          </p:blipFill>
          <p:spPr>
            <a:xfrm>
              <a:off x="600120" y="2732040"/>
              <a:ext cx="1368000" cy="908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8" name="圆角矩形 7"/>
          <p:cNvSpPr/>
          <p:nvPr/>
        </p:nvSpPr>
        <p:spPr>
          <a:xfrm>
            <a:off x="295200" y="3738600"/>
            <a:ext cx="1933560" cy="2087640"/>
          </a:xfrm>
          <a:custGeom>
            <a:avLst/>
            <a:gdLst>
              <a:gd name="textAreaLeft" fmla="*/ 94320 w 1933560"/>
              <a:gd name="textAreaRight" fmla="*/ 1839240 w 1933560"/>
              <a:gd name="textAreaTop" fmla="*/ 94320 h 2087640"/>
              <a:gd name="textAreaBottom" fmla="*/ 1993320 h 2087640"/>
            </a:gdLst>
            <a:ahLst/>
            <a:rect l="textAreaLeft" t="textAreaTop" r="textAreaRight" b="textAreaBottom"/>
            <a:pathLst>
              <a:path w="21600" h="23321">
                <a:moveTo>
                  <a:pt x="3600" y="0"/>
                </a:moveTo>
                <a:arcTo wR="3600" hR="3600" stAng="16200000" swAng="-5400000"/>
                <a:lnTo>
                  <a:pt x="0" y="19721"/>
                </a:lnTo>
                <a:arcTo wR="3600" hR="3600" stAng="10800000" swAng="-5400000"/>
                <a:lnTo>
                  <a:pt x="18000" y="2332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9" name="圆角矩形 36"/>
          <p:cNvSpPr/>
          <p:nvPr/>
        </p:nvSpPr>
        <p:spPr>
          <a:xfrm>
            <a:off x="4203720" y="3774960"/>
            <a:ext cx="2030400" cy="201636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550" name="Group 9"/>
          <p:cNvGrpSpPr/>
          <p:nvPr/>
        </p:nvGrpSpPr>
        <p:grpSpPr>
          <a:xfrm>
            <a:off x="6566040" y="2768760"/>
            <a:ext cx="1396440" cy="1031400"/>
            <a:chOff x="6566040" y="2768760"/>
            <a:chExt cx="1396440" cy="1031400"/>
          </a:xfrm>
        </p:grpSpPr>
        <p:sp>
          <p:nvSpPr>
            <p:cNvPr id="551" name="Oval 10"/>
            <p:cNvSpPr/>
            <p:nvPr/>
          </p:nvSpPr>
          <p:spPr>
            <a:xfrm>
              <a:off x="6599160" y="2799720"/>
              <a:ext cx="1331640" cy="1000440"/>
            </a:xfrm>
            <a:prstGeom prst="ellipse">
              <a:avLst/>
            </a:prstGeom>
            <a:solidFill>
              <a:srgbClr val="bb9abd"/>
            </a:solidFill>
            <a:ln w="38160">
              <a:solidFill>
                <a:srgbClr val="f8f8f8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pic>
          <p:nvPicPr>
            <p:cNvPr id="552" name="Picture 11" descr="cir_lighteffect0"/>
            <p:cNvPicPr/>
            <p:nvPr/>
          </p:nvPicPr>
          <p:blipFill>
            <a:blip r:embed="rId2"/>
            <a:stretch/>
          </p:blipFill>
          <p:spPr>
            <a:xfrm>
              <a:off x="6566040" y="2768760"/>
              <a:ext cx="1396440" cy="908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3" name="圆角矩形 12"/>
          <p:cNvSpPr/>
          <p:nvPr/>
        </p:nvSpPr>
        <p:spPr>
          <a:xfrm>
            <a:off x="6230880" y="3770280"/>
            <a:ext cx="2130480" cy="2016000"/>
          </a:xfrm>
          <a:prstGeom prst="roundRect">
            <a:avLst>
              <a:gd name="adj" fmla="val 1666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554" name="Group 9"/>
          <p:cNvGrpSpPr/>
          <p:nvPr/>
        </p:nvGrpSpPr>
        <p:grpSpPr>
          <a:xfrm>
            <a:off x="2490840" y="2720880"/>
            <a:ext cx="1371240" cy="1031760"/>
            <a:chOff x="2490840" y="2720880"/>
            <a:chExt cx="1371240" cy="1031760"/>
          </a:xfrm>
        </p:grpSpPr>
        <p:sp>
          <p:nvSpPr>
            <p:cNvPr id="555" name="Oval 10"/>
            <p:cNvSpPr/>
            <p:nvPr/>
          </p:nvSpPr>
          <p:spPr>
            <a:xfrm>
              <a:off x="2523240" y="2751840"/>
              <a:ext cx="1304280" cy="1000800"/>
            </a:xfrm>
            <a:prstGeom prst="ellipse">
              <a:avLst/>
            </a:prstGeom>
            <a:solidFill>
              <a:srgbClr val="bb9abd"/>
            </a:solidFill>
            <a:ln w="38160">
              <a:solidFill>
                <a:srgbClr val="f8f8f8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pic>
          <p:nvPicPr>
            <p:cNvPr id="556" name="Picture 11" descr="cir_lighteffect0"/>
            <p:cNvPicPr/>
            <p:nvPr/>
          </p:nvPicPr>
          <p:blipFill>
            <a:blip r:embed="rId3"/>
            <a:stretch/>
          </p:blipFill>
          <p:spPr>
            <a:xfrm>
              <a:off x="2490840" y="2720880"/>
              <a:ext cx="1371240" cy="909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7" name="圆角矩形 16"/>
          <p:cNvSpPr/>
          <p:nvPr/>
        </p:nvSpPr>
        <p:spPr>
          <a:xfrm>
            <a:off x="2205000" y="3754440"/>
            <a:ext cx="1998720" cy="2087640"/>
          </a:xfrm>
          <a:custGeom>
            <a:avLst/>
            <a:gdLst>
              <a:gd name="textAreaLeft" fmla="*/ 97560 w 1998720"/>
              <a:gd name="textAreaRight" fmla="*/ 1901160 w 1998720"/>
              <a:gd name="textAreaTop" fmla="*/ 97560 h 2087640"/>
              <a:gd name="textAreaBottom" fmla="*/ 1990080 h 2087640"/>
            </a:gdLst>
            <a:ahLst/>
            <a:rect l="textAreaLeft" t="textAreaTop" r="textAreaRight" b="textAreaBottom"/>
            <a:pathLst>
              <a:path w="21600" h="22561">
                <a:moveTo>
                  <a:pt x="3600" y="0"/>
                </a:moveTo>
                <a:arcTo wR="3600" hR="3600" stAng="16200000" swAng="-5400000"/>
                <a:lnTo>
                  <a:pt x="0" y="18961"/>
                </a:lnTo>
                <a:arcTo wR="3600" hR="3600" stAng="10800000" swAng="-5400000"/>
                <a:lnTo>
                  <a:pt x="18000" y="2256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558" name="Group 9"/>
          <p:cNvGrpSpPr/>
          <p:nvPr/>
        </p:nvGrpSpPr>
        <p:grpSpPr>
          <a:xfrm>
            <a:off x="4503600" y="2727360"/>
            <a:ext cx="1465200" cy="1031400"/>
            <a:chOff x="4503600" y="2727360"/>
            <a:chExt cx="1465200" cy="1031400"/>
          </a:xfrm>
        </p:grpSpPr>
        <p:sp>
          <p:nvSpPr>
            <p:cNvPr id="559" name="Oval 10"/>
            <p:cNvSpPr/>
            <p:nvPr/>
          </p:nvSpPr>
          <p:spPr>
            <a:xfrm>
              <a:off x="4538520" y="2758320"/>
              <a:ext cx="1397160" cy="1000440"/>
            </a:xfrm>
            <a:prstGeom prst="ellipse">
              <a:avLst/>
            </a:prstGeom>
            <a:solidFill>
              <a:srgbClr val="bb9abd"/>
            </a:solidFill>
            <a:ln w="38160">
              <a:solidFill>
                <a:srgbClr val="f8f8f8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pic>
          <p:nvPicPr>
            <p:cNvPr id="560" name="Picture 11" descr="cir_lighteffect0"/>
            <p:cNvPicPr/>
            <p:nvPr/>
          </p:nvPicPr>
          <p:blipFill>
            <a:blip r:embed="rId4"/>
            <a:stretch/>
          </p:blipFill>
          <p:spPr>
            <a:xfrm>
              <a:off x="4503600" y="2727360"/>
              <a:ext cx="1465200" cy="908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1" name="矩形 1"/>
          <p:cNvSpPr/>
          <p:nvPr/>
        </p:nvSpPr>
        <p:spPr>
          <a:xfrm>
            <a:off x="295200" y="3944880"/>
            <a:ext cx="190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人是一个整体适应系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2" name="矩形 48"/>
          <p:cNvSpPr/>
          <p:nvPr/>
        </p:nvSpPr>
        <p:spPr>
          <a:xfrm>
            <a:off x="2246400" y="3944880"/>
            <a:ext cx="194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健康是适应的一种反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3" name="矩形 43"/>
          <p:cNvSpPr/>
          <p:nvPr/>
        </p:nvSpPr>
        <p:spPr>
          <a:xfrm>
            <a:off x="4189320" y="3825720"/>
            <a:ext cx="2022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环境是由人体内部和外部的所有刺激构成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4" name="矩形 41"/>
          <p:cNvSpPr/>
          <p:nvPr/>
        </p:nvSpPr>
        <p:spPr>
          <a:xfrm>
            <a:off x="6248520" y="3795840"/>
            <a:ext cx="2112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促进四种适应性反应，减少无效反应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5" name="Rectangle 12"/>
          <p:cNvSpPr/>
          <p:nvPr/>
        </p:nvSpPr>
        <p:spPr>
          <a:xfrm>
            <a:off x="696960" y="2870280"/>
            <a:ext cx="113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人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6" name="矩形 42"/>
          <p:cNvSpPr/>
          <p:nvPr/>
        </p:nvSpPr>
        <p:spPr>
          <a:xfrm>
            <a:off x="6756480" y="2959200"/>
            <a:ext cx="107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7" name="Rectangle 12"/>
          <p:cNvSpPr/>
          <p:nvPr/>
        </p:nvSpPr>
        <p:spPr>
          <a:xfrm>
            <a:off x="2604960" y="2889360"/>
            <a:ext cx="113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健康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8" name="矩形 53"/>
          <p:cNvSpPr/>
          <p:nvPr/>
        </p:nvSpPr>
        <p:spPr>
          <a:xfrm>
            <a:off x="4643280" y="2930400"/>
            <a:ext cx="112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环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625" dur="indefinite" restart="never" nodeType="tmRoot">
          <p:childTnLst>
            <p:seq>
              <p:cTn id="626" dur="indefinite" nodeType="mainSeq">
                <p:childTnLst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1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4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7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0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5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8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3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6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1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4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9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2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8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1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4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0" y="1371240"/>
            <a:ext cx="9182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三）适应模式在护理中的应用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72" name="Rectangle 3"/>
          <p:cNvSpPr/>
          <p:nvPr/>
        </p:nvSpPr>
        <p:spPr>
          <a:xfrm>
            <a:off x="38160" y="2414520"/>
            <a:ext cx="9144000" cy="275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73" name="Text Box 4"/>
          <p:cNvSpPr/>
          <p:nvPr/>
        </p:nvSpPr>
        <p:spPr>
          <a:xfrm>
            <a:off x="0" y="2311560"/>
            <a:ext cx="2916360" cy="3115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．评估行为反应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生理功能方面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自我概念方面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角色功能方面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相互依赖方面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74" name="Text Box 5"/>
          <p:cNvSpPr/>
          <p:nvPr/>
        </p:nvSpPr>
        <p:spPr>
          <a:xfrm>
            <a:off x="2990880" y="2771640"/>
            <a:ext cx="2913120" cy="2466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．辨识刺激因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主要刺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相关刺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固有刺激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75" name="Text Box 6"/>
          <p:cNvSpPr/>
          <p:nvPr/>
        </p:nvSpPr>
        <p:spPr>
          <a:xfrm>
            <a:off x="5907240" y="3036960"/>
            <a:ext cx="3279600" cy="520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．制订护理目标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76" name="Text Box 7"/>
          <p:cNvSpPr/>
          <p:nvPr/>
        </p:nvSpPr>
        <p:spPr>
          <a:xfrm>
            <a:off x="5910120" y="4329000"/>
            <a:ext cx="3233880" cy="520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．实施护理干预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77" name="Text Box 8"/>
          <p:cNvSpPr/>
          <p:nvPr/>
        </p:nvSpPr>
        <p:spPr>
          <a:xfrm>
            <a:off x="5927760" y="5605560"/>
            <a:ext cx="3192480" cy="520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．评价行为结果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78" name="AutoShape 11"/>
          <p:cNvSpPr/>
          <p:nvPr/>
        </p:nvSpPr>
        <p:spPr>
          <a:xfrm>
            <a:off x="5076720" y="2492280"/>
            <a:ext cx="1728720" cy="216000"/>
          </a:xfrm>
          <a:custGeom>
            <a:avLst/>
            <a:gdLst>
              <a:gd name="textAreaLeft" fmla="*/ 302400 w 1728720"/>
              <a:gd name="textAreaRight" fmla="*/ 1253520 w 1728720"/>
              <a:gd name="textAreaTop" fmla="*/ 28800 h 216000"/>
              <a:gd name="textAreaBottom" fmla="*/ 1872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79" name="AutoShape 12"/>
          <p:cNvSpPr/>
          <p:nvPr/>
        </p:nvSpPr>
        <p:spPr>
          <a:xfrm>
            <a:off x="7380360" y="3738600"/>
            <a:ext cx="287280" cy="503280"/>
          </a:xfrm>
          <a:prstGeom prst="downArrow">
            <a:avLst>
              <a:gd name="adj1" fmla="val 50000"/>
              <a:gd name="adj2" fmla="val 4379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0" name="AutoShape 13"/>
          <p:cNvSpPr/>
          <p:nvPr/>
        </p:nvSpPr>
        <p:spPr>
          <a:xfrm>
            <a:off x="7380360" y="5022720"/>
            <a:ext cx="287280" cy="503280"/>
          </a:xfrm>
          <a:prstGeom prst="downArrow">
            <a:avLst>
              <a:gd name="adj1" fmla="val 50000"/>
              <a:gd name="adj2" fmla="val 4379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685" dur="indefinite" restart="never" nodeType="tmRoot">
          <p:childTnLst>
            <p:seq>
              <p:cTn id="686" dur="indefinite" nodeType="mainSeq">
                <p:childTnLst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1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6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1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6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1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6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1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6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5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3" name="Oval 9"/>
          <p:cNvSpPr/>
          <p:nvPr/>
        </p:nvSpPr>
        <p:spPr>
          <a:xfrm>
            <a:off x="0" y="2544840"/>
            <a:ext cx="3259080" cy="2305080"/>
          </a:xfrm>
          <a:prstGeom prst="ellipse">
            <a:avLst/>
          </a:prstGeom>
          <a:gradFill rotWithShape="0">
            <a:gsLst>
              <a:gs pos="0">
                <a:srgbClr val="ff33cc">
                  <a:alpha val="40000"/>
                </a:srgbClr>
              </a:gs>
              <a:gs pos="100000">
                <a:srgbClr val="76185e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4" name="AutoShape 18"/>
          <p:cNvSpPr/>
          <p:nvPr/>
        </p:nvSpPr>
        <p:spPr>
          <a:xfrm>
            <a:off x="4621320" y="2043000"/>
            <a:ext cx="4522680" cy="201636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第一节 护理学相关理论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一般系统论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 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人类基本需要层次理论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 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应激与适应理论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5" name="AutoShape 19"/>
          <p:cNvSpPr/>
          <p:nvPr/>
        </p:nvSpPr>
        <p:spPr>
          <a:xfrm>
            <a:off x="4621320" y="4365720"/>
            <a:ext cx="4522680" cy="190008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第二节 护理学理论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奥瑞姆的自理理论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罗伊的适应模式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6" name="Freeform 12"/>
          <p:cNvSpPr/>
          <p:nvPr/>
        </p:nvSpPr>
        <p:spPr>
          <a:xfrm rot="12939000">
            <a:off x="3429000" y="2827080"/>
            <a:ext cx="1146240" cy="1170000"/>
          </a:xfrm>
          <a:prstGeom prst="pie">
            <a:avLst/>
          </a:prstGeom>
          <a:gradFill rotWithShape="0">
            <a:gsLst>
              <a:gs pos="0">
                <a:srgbClr val="99669b"/>
              </a:gs>
              <a:gs pos="100000">
                <a:srgbClr val="7d7dbe"/>
              </a:gs>
            </a:gsLst>
            <a:lin ang="866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7" name="Text Box 22"/>
          <p:cNvSpPr/>
          <p:nvPr/>
        </p:nvSpPr>
        <p:spPr>
          <a:xfrm>
            <a:off x="225360" y="2654280"/>
            <a:ext cx="280836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第三章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护理学理论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及相关理论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727" dur="indefinite" restart="never" nodeType="tmRoot">
          <p:childTnLst>
            <p:seq>
              <p:cTn id="728" dur="indefinite" nodeType="mainSeq">
                <p:childTnLst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3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8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测试题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9" name=""/>
          <p:cNvSpPr txBox="1"/>
          <p:nvPr/>
        </p:nvSpPr>
        <p:spPr>
          <a:xfrm>
            <a:off x="-360" y="1371240"/>
            <a:ext cx="8915400" cy="52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一、单项选择题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关于系统的描述不正确的是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是指若干相互关联又相互作用的部分组成的一个整体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系统各部分有着相同的目的和功能 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几个系统可以联合为更大的系统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各部分共同作用发挥着整体功能   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一个系统是次系统还是超系统是相对而言的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答案：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5" dur="1000"/>
                                        <p:tgtEl>
                                          <p:spTgt spid="5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6" dur="1000" fill="hold"/>
                                        <p:tgtEl>
                                          <p:spTgt spid="5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1000" fill="hold"/>
                                        <p:tgtEl>
                                          <p:spTgt spid="5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299880"/>
            <a:ext cx="862488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一、一般系统论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270000" y="1483920"/>
            <a:ext cx="861048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系统的概述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系统的结构与功能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般系统论在护理中的应用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59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根据马斯洛的人类基本需要层次理论，属于最低层次的需要是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生理需要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安全需要  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爱与归属需要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尊重需要   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E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自我实现需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答案：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748" dur="indefinite" restart="never" nodeType="tmRoot">
          <p:childTnLst>
            <p:seq>
              <p:cTn id="749" dur="indefinite" nodeType="mainSeq">
                <p:childTnLst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4" dur="1000"/>
                                        <p:tgtEl>
                                          <p:spTgt spid="5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5" dur="1000" fill="hold"/>
                                        <p:tgtEl>
                                          <p:spTgt spid="5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1000" fill="hold"/>
                                        <p:tgtEl>
                                          <p:spTgt spid="5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59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患者因患肺癌，对死亡产生的恐惧，该应激源属于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躯体性   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心理性     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社会性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文化性   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E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技术性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答案：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3" dur="1000"/>
                                        <p:tgtEl>
                                          <p:spTgt spid="5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4" dur="1000" fill="hold"/>
                                        <p:tgtEl>
                                          <p:spTgt spid="5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1000" fill="hold"/>
                                        <p:tgtEl>
                                          <p:spTgt spid="5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59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下列属于奥瑞姆自理理论的核心部分的是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自理理论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自理缺陷理论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护理能力理论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自我需要理论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E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护理系统理论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答案：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766" dur="indefinite" restart="never" nodeType="tmRoot">
          <p:childTnLst>
            <p:seq>
              <p:cTn id="767" dur="indefinite" nodeType="mainSeq">
                <p:childTnLst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2" dur="1000"/>
                                        <p:tgtEl>
                                          <p:spTgt spid="5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3" dur="1000" fill="hold"/>
                                        <p:tgtEl>
                                          <p:spTgt spid="5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5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60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罗伊的适应模式是围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人的自理能力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人的适应行为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人的压力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护患关系   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E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预防保健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答案：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775" dur="indefinite" restart="never" nodeType="tmRoot">
          <p:childTnLst>
            <p:seq>
              <p:cTn id="776" dur="indefinite" nodeType="mainSeq">
                <p:childTnLst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1" dur="1000"/>
                                        <p:tgtEl>
                                          <p:spTgt spid="6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2" dur="1000" fill="hold"/>
                                        <p:tgtEl>
                                          <p:spTgt spid="6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1000" fill="hold"/>
                                        <p:tgtEl>
                                          <p:spTgt spid="6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604" name=""/>
          <p:cNvSpPr txBox="1"/>
          <p:nvPr/>
        </p:nvSpPr>
        <p:spPr>
          <a:xfrm>
            <a:off x="-360" y="1371600"/>
            <a:ext cx="891540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二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、多项选择题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下列符合系统论的观点的陈述的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系统的结构与功能是辩证统一的 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系统的结构反映系统的外部行为 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人是开放系统                          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护理系统是由自然系统和人造系统混合构成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E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护理系统具有决策和反馈功能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答案：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ACDE</a:t>
            </a:r>
            <a:r>
              <a:rPr b="1" lang="en-US" sz="32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784" dur="indefinite" restart="never" nodeType="tmRoot">
          <p:childTnLst>
            <p:seq>
              <p:cTn id="785" dur="indefinite" nodeType="mainSeq">
                <p:childTnLst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0" dur="1000"/>
                                        <p:tgtEl>
                                          <p:spTgt spid="6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6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6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607" name=""/>
          <p:cNvSpPr txBox="1"/>
          <p:nvPr/>
        </p:nvSpPr>
        <p:spPr>
          <a:xfrm>
            <a:off x="0" y="137124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．下列有关人类基本需要各层次之间关系的陈述，正确的包括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．各层次的基本需要重叠出现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．人们满足各层次基本需要的活动基本相同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宋体"/>
                <a:ea typeface="宋体"/>
              </a:rPr>
              <a:t>C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．生理需要是最低层次的需要，可延缓给予满足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．较高层次需要的满足方式有很大的个体差异性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宋体"/>
                <a:ea typeface="宋体"/>
              </a:rPr>
              <a:t>E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．人的各层次基本需要之间相互联系、相互影响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答案：</a:t>
            </a:r>
            <a:r>
              <a:rPr b="1" lang="en-US" sz="3000" spc="-1" strike="noStrike">
                <a:solidFill>
                  <a:srgbClr val="000000"/>
                </a:solidFill>
                <a:latin typeface="宋体"/>
                <a:ea typeface="宋体"/>
              </a:rPr>
              <a:t>DE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9" dur="1000"/>
                                        <p:tgtEl>
                                          <p:spTgt spid="6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0" dur="1000" fill="hold"/>
                                        <p:tgtEl>
                                          <p:spTgt spid="6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1000" fill="hold"/>
                                        <p:tgtEl>
                                          <p:spTgt spid="6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6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关于适应的特性，下列描述正确的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适应的最终目的是维持机体的内稳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适应能力因人而异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适应是无限度的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适应是主动的    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E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最佳适应就是健康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答案：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ABDE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802" dur="indefinite" restart="never" nodeType="tmRoot">
          <p:childTnLst>
            <p:seq>
              <p:cTn id="803" dur="indefinite" nodeType="mainSeq">
                <p:childTnLst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8" dur="1000"/>
                                        <p:tgtEl>
                                          <p:spTgt spid="6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9" dur="1000" fill="hold"/>
                                        <p:tgtEl>
                                          <p:spTgt spid="6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1000" fill="hold"/>
                                        <p:tgtEl>
                                          <p:spTgt spid="6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根据奥瑞姆自理理论，下列需选择全补偿护理系统的患者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昏迷患者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脑出血急性期患者   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精神障碍患者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大手术前清醒患者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E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高位截瘫失去自理能力的患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答案：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ABCE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811" dur="indefinite" restart="never" nodeType="tmRoot">
          <p:childTnLst>
            <p:seq>
              <p:cTn id="812" dur="indefinite" nodeType="mainSeq">
                <p:childTnLst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7" dur="1000"/>
                                        <p:tgtEl>
                                          <p:spTgt spid="6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8" dur="1000" fill="hold"/>
                                        <p:tgtEl>
                                          <p:spTgt spid="6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1000" fill="hold"/>
                                        <p:tgtEl>
                                          <p:spTgt spid="6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6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罗伊的适应模式的效应器包括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适应水平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生理功能   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自我概念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角色功能   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E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相互依赖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答案：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BCDE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820" dur="indefinite" restart="never" nodeType="tmRoot">
          <p:childTnLst>
            <p:seq>
              <p:cTn id="821" dur="indefinite" nodeType="mainSeq">
                <p:childTnLst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6" dur="1000"/>
                                        <p:tgtEl>
                                          <p:spTgt spid="6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7" dur="1000" fill="hold"/>
                                        <p:tgtEl>
                                          <p:spTgt spid="6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1000" fill="hold"/>
                                        <p:tgtEl>
                                          <p:spTgt spid="6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6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620" name="WordArt 4" descr=""/>
          <p:cNvPicPr/>
          <p:nvPr/>
        </p:nvPicPr>
        <p:blipFill>
          <a:blip r:embed="rId1"/>
          <a:stretch/>
        </p:blipFill>
        <p:spPr>
          <a:xfrm>
            <a:off x="1255680" y="1487520"/>
            <a:ext cx="6808680" cy="418788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一）系统的概述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系统的概念 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    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系统（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system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）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是由若干相互联系、相互作用的要素所组成的具有一定结构和功能的有机整体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系统的分类  常用的分类方法有：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按组成系统的要素性质：分为自然系统和人造系统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按系统的运动状态：分为动态系统和静态系统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按系统与环境的关系：分为开放系统和封闭系统。 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dell</cp:lastModifiedBy>
  <dcterms:modified xsi:type="dcterms:W3CDTF">2016-01-07T01:51:45Z</dcterms:modified>
  <cp:revision>119</cp:revision>
  <dc:subject/>
  <dc:title>内科护理学</dc:title>
</cp:coreProperties>
</file>